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4.png" ContentType="image/png"/>
  <Override PartName="/ppt/media/image9.wmf" ContentType="image/x-wmf"/>
  <Override PartName="/ppt/media/image10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78B8-40C9-4538-A418-CF4516E3B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ADB0-A3F3-4879-85CD-2615309EEC05}" type="slidenum">
              <a:rPr b="1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6A2-EB0E-4127-8A8B-6E43209B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A3F-5F13-49A4-B47C-60522E38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A59-F028-4A25-A1C5-4E03048D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A74-1389-4AD7-8F00-815A87ED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B24D-DD3E-42CB-9045-863A56C7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C238-5460-4C49-9D66-B7CB69B3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4A43-8E71-433D-960E-C05C2AF9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B3E0-769D-4208-ACA3-D12F3D3B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C713-770C-4DBD-B868-0B8BD357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6E69-4E96-4EE5-9A71-B5E4F050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6C0A-CFA4-4F75-BCE0-D69433C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3C7-628F-48FA-BC10-9B481134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93DB-0193-4A31-A0FB-169EE06A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5B40-4C09-4307-BE3A-34AD0DB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B854-FEFD-4FD6-B275-3CFDD7DC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1E81-B573-493B-9712-A3CC93AA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B4C9-A583-4CD7-8155-0BBF0C54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F55-28D5-403A-96B4-694EA21D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D0B-E423-4364-BD9D-842963B6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EF4-F1CC-428F-9C4A-DC91B8F6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EB5-FAAD-4332-BD66-A103DBE3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AAE-D687-4653-A788-D668F98A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EB4-0415-4D44-AB61-D031BD53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376-DCC6-41C1-9215-84376F27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B293-C793-4C51-9558-45A23D7A30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DF8D-D490-4CE4-BB15-47C232E6B8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419360" y="388620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фонова О.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Особенности репродуктивной системы в зрелом возрасте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Бартолиновы 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железы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располагаются в нижней трети БПГ ближе к задней спайке, имеют альвеолярно -трубчатое строение, вырабатывают секрет, увлажняющий при половом возбуждении вход во влагалище. Выделяется по выводному протоку, который открывается  в преддверии влагалища.</a:t>
            </a:r>
            <a:br>
              <a:rPr sz="24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2209680" y="3046320"/>
            <a:ext cx="48769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алые половые губ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43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П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торая пара продольных кожных складок, располагающихся под БПГ, в норме прикрыты ими. Начинаются от клитора, идут кзади и ближе к задней спайке сливаются с БПГ. Кожа тонкая и нежная, без волосяного покрова, имеет много нервных окончаний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ункция - половое возбужд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876920" y="4800600"/>
            <a:ext cx="3962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Клитор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небольшое конусовидное возвышение в переднем углу половой щели. Является аналогом полового члена. Обильно кровоснабжается и  иннервируется. Функция – половое  возбуждение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6477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6458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еддверие влагалищ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асполагается между клитором, МПГ и задней спайкой БПГ. Является входом во влагалище. От влагалища сверху отгра-ничивается девственной плевой. В преддверие влагалища открываются выводные протоки  бартолиновых желез и наружное отверстие уретр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4114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евственная пле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вственная плева – соединительнотканная перепонка, которая закрывает у девственниц вход во влагалище. В норме в ней имеется отверстие любой формы. После первого полового контакта края плевы надрываются, образуя гименальные сосочки. После родов от девственной плевы остаются миртовидные сосо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ункция – защитн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нутренние половые орган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ним относя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лагалище, матк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очные труб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ич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ая функц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орожд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E:\1.png"/>
          <p:cNvPicPr/>
          <p:nvPr/>
        </p:nvPicPr>
        <p:blipFill>
          <a:blip r:embed="rId1"/>
          <a:stretch/>
        </p:blipFill>
        <p:spPr>
          <a:xfrm>
            <a:off x="4648320" y="160020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лагалищ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533520" y="1447920"/>
            <a:ext cx="83055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лагалище – мышечно-эластичная трубка в центре малого таза, начинается от преддверия влагалища и заканчивается, прикрепляясь к шейке матки.  Влагалище образует своды - передний (впереди шейки), задний (позади шейки) и два боковых свода. Длина влагалища 7-8 см, ширина 2-3см.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тенка влагалища имеет 3 слоя. Внутренний - слизистый слой покрыт многослойным плоским эпителием бледно - розового цвета, имеет поперечные складки. Средний - мышечный слой, наружный слой из соединительной ткани. Окружает влагалище околовлагалищная клетчатка. 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епени чистоты влагалищ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3519360" y="3622680"/>
          <a:ext cx="2105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3622680"/>
                    <a:ext cx="210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Picture 6" descr="Disease-Ovary-Model-YJ271-"/>
          <p:cNvPicPr/>
          <p:nvPr/>
        </p:nvPicPr>
        <p:blipFill>
          <a:blip r:embed="rId3"/>
          <a:stretch/>
        </p:blipFill>
        <p:spPr>
          <a:xfrm>
            <a:off x="5105520" y="2438280"/>
            <a:ext cx="4038480" cy="370548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5"/>
          <p:cNvSpPr/>
          <p:nvPr/>
        </p:nvSpPr>
        <p:spPr>
          <a:xfrm>
            <a:off x="609480" y="1523880"/>
            <a:ext cx="4496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орме во влагалище кислая среда, микрофлора влага-лищные палочки. Различаю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степени чистоты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,2 - норма, среда кислая, много влагалищных палочек, единичные лейкоцит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,4 - патология, реакция щелочная, мало палочек, появляется патогенная мик-рофлора, много лейкоцитов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ункции – участие в деторождении и защитная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Мат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тка - полый мышечный орган грушевидной формы. Имеет  три отдела: тело, перешеек и шейку. Тело заканчи-вается дном мат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а матки у женщины репродуктивного возраста в среднем равна 7–8 см, ширина 4 см, толщина 2–3 см. Масса матки у нерожавших женщин 40 - 50 г.,  у рожавших 60-80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51055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Мат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352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ело – верхний, самый крупный отдел матки. Полость матки имеет форму треугольника, в верхних углах которого открываются отверстия маточных труб. Слои: эндометрий,миометрий,периметр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уженный переход тела матки в шейку называется перешейком матк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Шейка матки – это узкая нижняя часть матки. В ней различают влагалищную часть, вдающуюся во влагалище ниже его сводов, и надвлагалищную верхнюю часть, располагающуюся выше сводов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Функции матки – защитная (канал шейки матки содержит слизистую пробку), детородная (плодовместилище), менструальная (вне беременности в эндометрии происходят циклические изменения, завершающиеся менструацией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чебные цел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строения женских половых органов в зрелом возрас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ормирование представления о строении мужских половых органов в зрелом возрас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зучение влияния мужских и женских половых гормонов на организм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Маточные труб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5257800" cy="41148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3"/>
          <p:cNvSpPr/>
          <p:nvPr/>
        </p:nvSpPr>
        <p:spPr>
          <a:xfrm>
            <a:off x="0" y="1295280"/>
            <a:ext cx="3886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точные (фаллопиевы) трубы - парный трубчатый орган длиной 10-12 см, толщиной 0,5 см, диаметром от 1-2 мм в начальном отделе до 6-8 мм в конечном отделе. Маточные трубы начинаются от верхних углов матки, идут в стороны к боковым стенкам таза в виде дугообразно изогнутых образований. Они расположены по обе стороны дна матки, узким концом открываются в полость матки, а расширенным - в брюшную полость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аточные труб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трубе различают интерстициальную (маточную, длина 1 см) часть, проходящую в толще стенки матки, истмическую (перешеек, длина 3-4 см) – наиболее суженную среднюю часть и ампулярную (длина 5-6 см) – расширенную часть трубы, заканчивающуюся воронкой. Края воронки имеют вид бахромок – фимбри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енки труб состоят из трех слоев: внутреннего – слизистого, покрытого однослойным цилиндрическим мерцательным эпителием, реснички которого мерцают в сторону матки, среднего – мышечного и наружного – серозного (брюшина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Функции маточных труб – детородная (в ампулярном отделе трубы происходит оплодотворение яйцеклетки),  транспортная (продвижение плодного яйца в полость матки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2-я неделя беременности: плодное яйцо двигается в матку</a:t>
            </a:r>
            <a:br>
              <a:rPr sz="4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2322360" y="2209680"/>
            <a:ext cx="59835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Яичн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304920" y="1219320"/>
            <a:ext cx="426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ичники  – парные женские половые железы овоидной формы. Масса яичника равна 6–8 г; длина составляет 3,5–5 см, ширина 2,5–3,0 см и толщина до 2 см. Поверхность яичника покрыта однослойным эпителием, под ним белочная оболочка. Внутреннее вещество (паренхима) делится на наружные и внутренние слои. Наружный корковый слой,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ем находятся многочисленные первичные фолликулы в разной стадии развития и желтые тела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ний мозговой слой состоит из соединительной ткани с многочисленными сосудами и нервами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Яични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029200" y="2943360"/>
            <a:ext cx="3657600" cy="318744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8"/>
          <p:cNvSpPr/>
          <p:nvPr/>
        </p:nvSpPr>
        <p:spPr>
          <a:xfrm>
            <a:off x="304920" y="14479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ункции яичников -детородная (в яичниках ежемесячно происходит процесс созревания и выхода в брюшную полость зрелых яйцеклеток, способных к оплодотворению), эндокринная( выработка женских половых гормонов эстрогенов и прогестерона)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ужские половые орган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Рисунок 3" descr="https://uran.help/wp-content/uploads/2018/09/Urolog-zanimaetsya-diagnostikoj-i-lecheniem-zabolevanij-organov-mochepolovoj-sistemy.-Istochnik-uromir.ru_.jpg"/>
          <p:cNvPicPr/>
          <p:nvPr/>
        </p:nvPicPr>
        <p:blipFill>
          <a:blip r:embed="rId1"/>
          <a:stretch/>
        </p:blipFill>
        <p:spPr>
          <a:xfrm>
            <a:off x="380880" y="1219320"/>
            <a:ext cx="80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3" name="Содержимое 3" descr="https://lifeo.ru/wp-content/uploads/raspologenie-organov-cheloveka-v-kartinkah-niz-muzhskaya-reproduktivnaya-sistema.jpg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Благодарю за внимание!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5" name="Содержимое 3" descr="https://avatars.mds.yandex.net/get-pdb/231404/f45dd841-2dde-4206-99f6-b87b929ef4b5/s800"/>
          <p:cNvPicPr/>
          <p:nvPr/>
        </p:nvPicPr>
        <p:blipFill>
          <a:blip r:embed="rId1"/>
          <a:stretch/>
        </p:blipFill>
        <p:spPr>
          <a:xfrm>
            <a:off x="1905120" y="2362320"/>
            <a:ext cx="5562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нятие о репродуктивной систем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продуктивная система – это система органов, участвующих в воспроизве-дении потом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ская репродуктивная система представлена наружными (внешними) и внутренними половыми орган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ница между внешними и внутренними  половыми органами женщины  девственная пле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6" name="Содержимое 3" descr="D:\Пользователь\Desktop\slide-65.jpg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ружные половые орган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наружным половым органам относят лобок, большие (БПГ) и малые половые губы (МПГ), клитор, преддверие влагалища (вход во влагалище), большие железы преддверия влагалища (бартолиновы желез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функции – защитная и функция полового возбуж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ружные половые орган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315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Лобок</a:t>
            </a: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 треугольное возвышение над лонным сочленением. Сверху ограничен надлобковой складкой, по бокам паховыми складками, книзу и кзади переходит в БПГ. Покрыт волосами (горизонтальная граница роста волос).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Функция лобка - половое возбуждение.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541044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Большие половые губ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ие половые губы - это две парные продольные  кожные складки, ограничивающие по бокам половую щель. Начинаются от лобка, идут кзади, сужаются, сближаются и соединяются, образуя заднюю спайк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наружи покрыты волосами. Имеют сальные и потовые железы. Основная функци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щитная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Большие половые губ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2743200" y="3294000"/>
            <a:ext cx="5334120" cy="33163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5"/>
          <p:cNvSpPr/>
          <p:nvPr/>
        </p:nvSpPr>
        <p:spPr>
          <a:xfrm>
            <a:off x="380880" y="144792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ояние от задней спайки БПГ до ануса называется  промежностью.  Это мышечно- фасциальная пластинка, покрытая кожей. Высота ее в норме 3-4см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1-02T16:19:40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