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E5F3-DAD3-4A74-8386-3C3B4DA1B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6365-5730-4FF6-B4F7-9B27D99004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818C-E179-40D6-8588-9AB6D7C5F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211-D235-43C4-9CB1-5161DC3D71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DF6-F874-413A-919D-401376E599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2F6-ABCA-449A-883F-3F855CB81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F0C-105A-4E31-8C05-95510B632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9F49-B290-4886-840A-CA9376BBA9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1559-0757-4319-B14C-4A565AD008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6BF-15F6-4B78-A5FE-CFB7DC2DDA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7248-C50A-418E-BECC-889CE6845D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931-5EFC-4A88-9C38-66ADF5F8E0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F86A-CF75-4F11-A1F1-86FC025884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E1C-7DA9-4E38-BE27-FF78011AD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0EC0-EBDE-4DC0-A070-4E53489B1E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06E7-E742-495E-BD8F-448D27E297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44B-A853-46E7-83D0-39D258DCD6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78E-21FE-4211-9377-95F84A6769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513-CD18-4572-BB53-F4C7178144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AA9-ACE6-4F79-9173-4B0720DA3E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37F-B79E-48C7-9B23-B32BC02262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BC1E-15A1-4CBF-A4D5-EA64E731FA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1A67-9F69-45BE-B039-87258AED7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A45C-0F1D-4003-BDBC-BA24D29B7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8AE-3FA6-424A-90B7-912E44844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6F5D-C12D-4E4F-9DBE-E21A317048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87E-7268-4D97-ABB6-ADCBF9D24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C5D-1417-484C-BC44-EBD894B3C4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1BD1-59CA-4C44-885C-2A6F5D7EAA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D93-722E-46F7-9BCB-D218B0D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B76-6FAE-4967-B8DB-306EDE94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2C2-E146-4580-B1E9-616D24C0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7C2-02E3-42AE-B1C7-427161AC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F6E-47E1-41DD-B694-4933FD44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4E6-3ADE-427F-A75B-BF41378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73C-044F-4D51-8E9A-02BBE9C1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B01-3C17-429E-B090-3CA44FBD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E3D-CB7D-42CF-BFA2-485EEFD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F7E-861F-474C-8F8D-5011F73F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6B6-F91F-4CF6-BB70-F355F21E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34F-9FE8-4C7F-83B6-DE8E87D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45B0-F707-465A-B4B1-1B27054226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png"/><Relationship Id="rId12" Type="http://schemas.openxmlformats.org/officeDocument/2006/relationships/image" Target="../media/image4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00240"/>
            <a:ext cx="6929280" cy="1470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НЕВМО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2600" y="213840"/>
            <a:ext cx="7715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ПОУ  «ЧЕЛЯБИНСКИЙ МЕДИЦИНСКИЙ КОЛЛЕДЖ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71640" y="558972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лябинск,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Documents and Settings\sony\My Documents\My Pictures\2_1052767785.jpg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112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Documents and Settings\sony\My Documents\My Pictures\bindu.jpg"/>
          <p:cNvPicPr/>
          <p:nvPr/>
        </p:nvPicPr>
        <p:blipFill>
          <a:blip r:embed="rId2"/>
          <a:stretch/>
        </p:blipFill>
        <p:spPr>
          <a:xfrm>
            <a:off x="0" y="4730760"/>
            <a:ext cx="3276720" cy="21272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6"/>
          <p:cNvGrpSpPr/>
          <p:nvPr/>
        </p:nvGrpSpPr>
        <p:grpSpPr>
          <a:xfrm>
            <a:off x="228600" y="838080"/>
            <a:ext cx="6248520" cy="1008720"/>
            <a:chOff x="228600" y="838080"/>
            <a:chExt cx="6248520" cy="1008720"/>
          </a:xfrm>
        </p:grpSpPr>
        <p:sp>
          <p:nvSpPr>
            <p:cNvPr id="221" name="Rectangle 4"/>
            <p:cNvSpPr/>
            <p:nvPr/>
          </p:nvSpPr>
          <p:spPr>
            <a:xfrm>
              <a:off x="304920" y="838080"/>
              <a:ext cx="617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НЕВМОНИЯ У ЛИЦ С ИММУНОДЕФИЦИТОМ</a:t>
              </a:r>
              <a:r>
                <a:rPr b="1" lang="ru-RU" sz="17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228600" y="990720"/>
              <a:ext cx="6172200" cy="685800"/>
            </a:xfrm>
            <a:prstGeom prst="rect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Rectangle 6"/>
          <p:cNvSpPr/>
          <p:nvPr/>
        </p:nvSpPr>
        <p:spPr>
          <a:xfrm>
            <a:off x="685800" y="220968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мегаловиру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ные гриб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828800" y="3581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ИЧ-ассоциированные пневмон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038480" y="4114800"/>
            <a:ext cx="914400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neumocysti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inii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cobacterium</a:t>
            </a:r>
            <a:r>
              <a:rPr b="1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uberculosis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38480" y="518148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eptococcu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neumonia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emophilus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luenze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228600" y="228600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228600" y="28195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3657600" y="44197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3657600" y="4952880"/>
            <a:ext cx="304920" cy="1526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3657600" y="548640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3657600" y="60199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ТИОЛОГИЧЕСКАЯ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СИФИКАЦИЯ.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428840" y="214200"/>
            <a:ext cx="6643440" cy="6429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ТОГЕНЕ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14200" y="1071720"/>
            <a:ext cx="2214720" cy="64296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Этиологические факт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71680" y="4000680"/>
            <a:ext cx="2000160" cy="78552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ыброс эндо- и экзотокси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500040" y="2357280"/>
            <a:ext cx="2071800" cy="92880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олонизация эпителиальных клет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3000240" y="5786280"/>
            <a:ext cx="2643480" cy="85752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линические проявления боле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6"/>
          <p:cNvSpPr/>
          <p:nvPr/>
        </p:nvSpPr>
        <p:spPr>
          <a:xfrm>
            <a:off x="3000240" y="4572000"/>
            <a:ext cx="2500560" cy="64296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оспаление альвеол и бронхи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3071880" y="2857680"/>
            <a:ext cx="2357280" cy="121428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нвазия и внутриклеточная персистенция возбуди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3143160" y="1500120"/>
            <a:ext cx="2071800" cy="100008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дгезия к эпителиальным клетк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9"/>
          <p:cNvSpPr/>
          <p:nvPr/>
        </p:nvSpPr>
        <p:spPr>
          <a:xfrm>
            <a:off x="6715080" y="5429160"/>
            <a:ext cx="2214720" cy="128592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ктивация условно-патогенной микрофло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0"/>
          <p:cNvSpPr/>
          <p:nvPr/>
        </p:nvSpPr>
        <p:spPr>
          <a:xfrm>
            <a:off x="6572160" y="4429080"/>
            <a:ext cx="2357640" cy="64296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Нарушение лег. кровообра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11"/>
          <p:cNvSpPr/>
          <p:nvPr/>
        </p:nvSpPr>
        <p:spPr>
          <a:xfrm>
            <a:off x="6286680" y="3357720"/>
            <a:ext cx="2286000" cy="71424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нижение общей неспец. защи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643720" y="2214720"/>
            <a:ext cx="2643120" cy="64296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одавление местных защитных мех-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6072120" y="1071720"/>
            <a:ext cx="2643120" cy="71424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пособствующие фак-ры и фак-ры ри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214200" y="5572080"/>
            <a:ext cx="2071800" cy="1143000"/>
          </a:xfrm>
          <a:prstGeom prst="rect">
            <a:avLst/>
          </a:prstGeom>
          <a:solidFill>
            <a:srgbClr val="16165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разование АТ и иммунных комплек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Прямая со стрелкой 16"/>
          <p:cNvCxnSpPr/>
          <p:nvPr/>
        </p:nvCxnSpPr>
        <p:spPr>
          <a:xfrm flipH="1">
            <a:off x="283320" y="1714680"/>
            <a:ext cx="2520" cy="3859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9" name="Прямая со стрелкой 22"/>
          <p:cNvCxnSpPr>
            <a:endCxn id="241" idx="1"/>
          </p:cNvCxnSpPr>
          <p:nvPr/>
        </p:nvCxnSpPr>
        <p:spPr>
          <a:xfrm>
            <a:off x="2428920" y="1714320"/>
            <a:ext cx="714960" cy="2862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24"/>
          <p:cNvCxnSpPr>
            <a:endCxn id="237" idx="3"/>
          </p:cNvCxnSpPr>
          <p:nvPr/>
        </p:nvCxnSpPr>
        <p:spPr>
          <a:xfrm flipH="1">
            <a:off x="2571120" y="2499120"/>
            <a:ext cx="786600" cy="321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1" name="Прямая со стрелкой 26"/>
          <p:cNvCxnSpPr>
            <a:stCxn id="237" idx="3"/>
            <a:endCxn id="240" idx="1"/>
          </p:cNvCxnSpPr>
          <p:nvPr/>
        </p:nvCxnSpPr>
        <p:spPr>
          <a:xfrm>
            <a:off x="2571480" y="2820960"/>
            <a:ext cx="500760" cy="6451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2" name="Прямая со стрелкой 28"/>
          <p:cNvCxnSpPr>
            <a:endCxn id="236" idx="3"/>
          </p:cNvCxnSpPr>
          <p:nvPr/>
        </p:nvCxnSpPr>
        <p:spPr>
          <a:xfrm flipH="1">
            <a:off x="2571120" y="3785760"/>
            <a:ext cx="500760" cy="608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30"/>
          <p:cNvCxnSpPr>
            <a:stCxn id="236" idx="3"/>
            <a:endCxn id="239" idx="1"/>
          </p:cNvCxnSpPr>
          <p:nvPr/>
        </p:nvCxnSpPr>
        <p:spPr>
          <a:xfrm>
            <a:off x="2571840" y="4393800"/>
            <a:ext cx="42912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33"/>
          <p:cNvCxnSpPr>
            <a:stCxn id="247" idx="3"/>
          </p:cNvCxnSpPr>
          <p:nvPr/>
        </p:nvCxnSpPr>
        <p:spPr>
          <a:xfrm flipV="1">
            <a:off x="2286000" y="5214600"/>
            <a:ext cx="929520" cy="929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5"/>
          <p:cNvCxnSpPr>
            <a:stCxn id="239" idx="2"/>
            <a:endCxn id="238" idx="0"/>
          </p:cNvCxnSpPr>
          <p:nvPr/>
        </p:nvCxnSpPr>
        <p:spPr>
          <a:xfrm>
            <a:off x="4249800" y="5214600"/>
            <a:ext cx="7200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6" name="Прямая со стрелкой 37"/>
          <p:cNvCxnSpPr>
            <a:stCxn id="242" idx="1"/>
          </p:cNvCxnSpPr>
          <p:nvPr/>
        </p:nvCxnSpPr>
        <p:spPr>
          <a:xfrm flipH="1" flipV="1">
            <a:off x="5142960" y="5214240"/>
            <a:ext cx="1572120" cy="85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7" name="Прямая со стрелкой 39"/>
          <p:cNvCxnSpPr>
            <a:stCxn id="243" idx="2"/>
          </p:cNvCxnSpPr>
          <p:nvPr/>
        </p:nvCxnSpPr>
        <p:spPr>
          <a:xfrm flipH="1">
            <a:off x="7571520" y="5072040"/>
            <a:ext cx="18036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8" name="Прямая со стрелкой 41"/>
          <p:cNvCxnSpPr>
            <a:stCxn id="243" idx="1"/>
            <a:endCxn id="239" idx="3"/>
          </p:cNvCxnSpPr>
          <p:nvPr/>
        </p:nvCxnSpPr>
        <p:spPr>
          <a:xfrm flipH="1">
            <a:off x="5500440" y="4750200"/>
            <a:ext cx="1072080" cy="14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9" name="Прямая со стрелкой 43"/>
          <p:cNvCxnSpPr/>
          <p:nvPr/>
        </p:nvCxnSpPr>
        <p:spPr>
          <a:xfrm flipH="1">
            <a:off x="5500080" y="4070880"/>
            <a:ext cx="78660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0" name="Прямая со стрелкой 47"/>
          <p:cNvCxnSpPr>
            <a:endCxn id="240" idx="3"/>
          </p:cNvCxnSpPr>
          <p:nvPr/>
        </p:nvCxnSpPr>
        <p:spPr>
          <a:xfrm flipH="1">
            <a:off x="5428800" y="2857680"/>
            <a:ext cx="215280" cy="606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1" name="Прямая со стрелкой 49"/>
          <p:cNvCxnSpPr>
            <a:endCxn id="241" idx="3"/>
          </p:cNvCxnSpPr>
          <p:nvPr/>
        </p:nvCxnSpPr>
        <p:spPr>
          <a:xfrm flipH="1" flipV="1">
            <a:off x="5214240" y="1999800"/>
            <a:ext cx="429480" cy="215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2" name="Прямая со стрелкой 51"/>
          <p:cNvCxnSpPr/>
          <p:nvPr/>
        </p:nvCxnSpPr>
        <p:spPr>
          <a:xfrm flipH="1">
            <a:off x="6286320" y="1785600"/>
            <a:ext cx="2160" cy="429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3" name="Прямая со стрелкой 53"/>
          <p:cNvCxnSpPr/>
          <p:nvPr/>
        </p:nvCxnSpPr>
        <p:spPr>
          <a:xfrm flipH="1">
            <a:off x="8357400" y="1856880"/>
            <a:ext cx="2520" cy="1429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4" name="Прямая со стрелкой 55"/>
          <p:cNvCxnSpPr/>
          <p:nvPr/>
        </p:nvCxnSpPr>
        <p:spPr>
          <a:xfrm flipH="1">
            <a:off x="8714520" y="1856880"/>
            <a:ext cx="2520" cy="257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152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Международный консенсус и Российский терапевтический протокол, приказ Минздрава РФ № 300, 19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28800" y="1828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УТРИБОЛЬНИЧНАЯ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ГОСПИТАЛЬНАЯ, НОЗОКОМИАЛЬНА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828800" y="2895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ЕБОЛЬНИЧНАЯ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НЕВМО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ЕРВИЧНАЯ, ДОМАШНЯЯ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905120" y="3733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ПИРАЦИОННАЯ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НЕВМОНИЯ.</a:t>
            </a:r>
            <a:r>
              <a:rPr b="0" lang="ru-RU" sz="17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905120" y="4876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Я У ЛИЦ С ИММУНОДЕФИЦИ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рожденным или приобретенны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28600" y="152280"/>
            <a:ext cx="8686800" cy="1371600"/>
          </a:xfrm>
          <a:prstGeom prst="flowChartProcess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2"/>
          <p:cNvSpPr/>
          <p:nvPr/>
        </p:nvSpPr>
        <p:spPr>
          <a:xfrm>
            <a:off x="1143000" y="411480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3"/>
          <p:cNvSpPr/>
          <p:nvPr/>
        </p:nvSpPr>
        <p:spPr>
          <a:xfrm>
            <a:off x="1143000" y="502920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4"/>
          <p:cNvSpPr/>
          <p:nvPr/>
        </p:nvSpPr>
        <p:spPr>
          <a:xfrm>
            <a:off x="1143000" y="30481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1143000" y="205740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0" descr="C:\Documents and Settings\sony\My Documents\My Pictures\200303pneumonia.jpg"/>
          <p:cNvPicPr/>
          <p:nvPr/>
        </p:nvPicPr>
        <p:blipFill>
          <a:blip r:embed="rId1"/>
          <a:stretch/>
        </p:blipFill>
        <p:spPr>
          <a:xfrm>
            <a:off x="3276720" y="4419720"/>
            <a:ext cx="2743200" cy="2195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ЕСКА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ЛАССИФ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04920" y="11430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гментарна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сегментарна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я (бронхопневмония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295280" y="152280"/>
            <a:ext cx="6553440" cy="762120"/>
          </a:xfrm>
          <a:prstGeom prst="flowChartProcess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2209680" y="3429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лева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4876920" y="1600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ерстициальна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4"/>
          <p:cNvSpPr/>
          <p:nvPr/>
        </p:nvSpPr>
        <p:spPr>
          <a:xfrm rot="5418000">
            <a:off x="3427560" y="2057760"/>
            <a:ext cx="2439720" cy="304920"/>
          </a:xfrm>
          <a:custGeom>
            <a:avLst/>
            <a:gdLst>
              <a:gd name="textAreaLeft" fmla="*/ 165960 w 2439720"/>
              <a:gd name="textAreaRight" fmla="*/ 2273760 w 2439720"/>
              <a:gd name="textAreaTop" fmla="*/ 91440 h 304920"/>
              <a:gd name="textAreaBottom" fmla="*/ 213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488"/>
                </a:moveTo>
                <a:lnTo>
                  <a:pt x="17920" y="6488"/>
                </a:lnTo>
                <a:lnTo>
                  <a:pt x="17920" y="0"/>
                </a:lnTo>
                <a:lnTo>
                  <a:pt x="21600" y="10800"/>
                </a:lnTo>
                <a:lnTo>
                  <a:pt x="17920" y="21600"/>
                </a:lnTo>
                <a:lnTo>
                  <a:pt x="17920" y="15112"/>
                </a:lnTo>
                <a:lnTo>
                  <a:pt x="0" y="15112"/>
                </a:lnTo>
                <a:lnTo>
                  <a:pt x="1469" y="10800"/>
                </a:lnTo>
                <a:lnTo>
                  <a:pt x="0" y="6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5"/>
          <p:cNvSpPr/>
          <p:nvPr/>
        </p:nvSpPr>
        <p:spPr>
          <a:xfrm rot="5418000">
            <a:off x="1905480" y="1218240"/>
            <a:ext cx="687240" cy="225720"/>
          </a:xfrm>
          <a:custGeom>
            <a:avLst/>
            <a:gdLst>
              <a:gd name="textAreaLeft" fmla="*/ 46440 w 687240"/>
              <a:gd name="textAreaRight" fmla="*/ 640800 w 687240"/>
              <a:gd name="textAreaTop" fmla="*/ 67680 h 225720"/>
              <a:gd name="textAreaBottom" fmla="*/ 158040 h 225720"/>
            </a:gdLst>
            <a:ahLst/>
            <a:rect l="textAreaLeft" t="textAreaTop" r="textAreaRight" b="textAreaBottom"/>
            <a:pathLst>
              <a:path w="21600" h="21600">
                <a:moveTo>
                  <a:pt x="0" y="6488"/>
                </a:moveTo>
                <a:lnTo>
                  <a:pt x="17920" y="6488"/>
                </a:lnTo>
                <a:lnTo>
                  <a:pt x="17920" y="0"/>
                </a:lnTo>
                <a:lnTo>
                  <a:pt x="21600" y="10800"/>
                </a:lnTo>
                <a:lnTo>
                  <a:pt x="17920" y="21600"/>
                </a:lnTo>
                <a:lnTo>
                  <a:pt x="17920" y="15112"/>
                </a:lnTo>
                <a:lnTo>
                  <a:pt x="0" y="15112"/>
                </a:lnTo>
                <a:lnTo>
                  <a:pt x="1469" y="10800"/>
                </a:lnTo>
                <a:lnTo>
                  <a:pt x="0" y="6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6"/>
          <p:cNvSpPr/>
          <p:nvPr/>
        </p:nvSpPr>
        <p:spPr>
          <a:xfrm rot="5418000">
            <a:off x="6550560" y="1221480"/>
            <a:ext cx="687240" cy="225720"/>
          </a:xfrm>
          <a:custGeom>
            <a:avLst/>
            <a:gdLst>
              <a:gd name="textAreaLeft" fmla="*/ 46440 w 687240"/>
              <a:gd name="textAreaRight" fmla="*/ 640800 w 687240"/>
              <a:gd name="textAreaTop" fmla="*/ 67680 h 225720"/>
              <a:gd name="textAreaBottom" fmla="*/ 158040 h 225720"/>
            </a:gdLst>
            <a:ahLst/>
            <a:rect l="textAreaLeft" t="textAreaTop" r="textAreaRight" b="textAreaBottom"/>
            <a:pathLst>
              <a:path w="21600" h="21600">
                <a:moveTo>
                  <a:pt x="0" y="6488"/>
                </a:moveTo>
                <a:lnTo>
                  <a:pt x="17920" y="6488"/>
                </a:lnTo>
                <a:lnTo>
                  <a:pt x="17920" y="0"/>
                </a:lnTo>
                <a:lnTo>
                  <a:pt x="21600" y="10800"/>
                </a:lnTo>
                <a:lnTo>
                  <a:pt x="17920" y="21600"/>
                </a:lnTo>
                <a:lnTo>
                  <a:pt x="17920" y="15112"/>
                </a:lnTo>
                <a:lnTo>
                  <a:pt x="0" y="15112"/>
                </a:lnTo>
                <a:lnTo>
                  <a:pt x="1469" y="10800"/>
                </a:lnTo>
                <a:lnTo>
                  <a:pt x="0" y="6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22" descr="C:\Documents and Settings\sony\My Documents\My Pictures\PneumNeonat.jpg"/>
          <p:cNvPicPr/>
          <p:nvPr/>
        </p:nvPicPr>
        <p:blipFill>
          <a:blip r:embed="rId2"/>
          <a:stretch/>
        </p:blipFill>
        <p:spPr>
          <a:xfrm>
            <a:off x="304920" y="4433760"/>
            <a:ext cx="2590560" cy="2084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http://secondopinions.ru/images/article/pnevmonit-otlich%20(1).png"/>
          <p:cNvPicPr/>
          <p:nvPr/>
        </p:nvPicPr>
        <p:blipFill>
          <a:blip r:embed="rId3"/>
          <a:stretch/>
        </p:blipFill>
        <p:spPr>
          <a:xfrm>
            <a:off x="6429240" y="4429080"/>
            <a:ext cx="2414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304920" y="3808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ПЫ ДИАГНОСТИКИ ПНЕВМО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38080" y="1981080"/>
            <a:ext cx="807732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тановить факт наличия пневмо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сти дифференциальную диагностику с целью исключения синдромно сходных состоя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иентировочно (эмпирически) определить этиологический вариант для выбора оптимальной программы лечения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304920" y="21337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304920" y="51055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304920" y="31240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26"/>
          <p:cNvSpPr/>
          <p:nvPr/>
        </p:nvSpPr>
        <p:spPr>
          <a:xfrm>
            <a:off x="304920" y="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ЕСКАЯ КАР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27"/>
          <p:cNvSpPr/>
          <p:nvPr/>
        </p:nvSpPr>
        <p:spPr>
          <a:xfrm>
            <a:off x="533520" y="228600"/>
            <a:ext cx="7924680" cy="60948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28"/>
          <p:cNvSpPr/>
          <p:nvPr/>
        </p:nvSpPr>
        <p:spPr>
          <a:xfrm>
            <a:off x="1071720" y="1285920"/>
            <a:ext cx="721512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СИМПТОМЫ (ВНЕЛЕГОЧНЫЕ)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абость, вялость, адинамия, снижение аппетита, лихорадка, ознобы, потливость, головная боль, симптомы поражения органов и систем при инфекционно-токсических проявлени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1029"/>
          <p:cNvSpPr/>
          <p:nvPr/>
        </p:nvSpPr>
        <p:spPr>
          <a:xfrm>
            <a:off x="685800" y="380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0"/>
          <p:cNvSpPr/>
          <p:nvPr/>
        </p:nvSpPr>
        <p:spPr>
          <a:xfrm>
            <a:off x="1143000" y="4000680"/>
            <a:ext cx="71438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НЫЕ СИМПТОМЫ (ЛЕГОЧНЫЕ):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шель, наличие мокроты, ее характер (слизистая, гнойная, слизисто-гнойная, ржавая, кровохарканье), боль в грудной клетке, ее связь с дыханием, одыш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2"/>
          <p:cNvSpPr/>
          <p:nvPr/>
        </p:nvSpPr>
        <p:spPr>
          <a:xfrm>
            <a:off x="380880" y="1066680"/>
            <a:ext cx="152640" cy="541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026"/>
          <p:cNvSpPr/>
          <p:nvPr/>
        </p:nvSpPr>
        <p:spPr>
          <a:xfrm>
            <a:off x="304920" y="0"/>
            <a:ext cx="83055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ЕСКАЯ КАР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евой пневмо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27"/>
          <p:cNvSpPr/>
          <p:nvPr/>
        </p:nvSpPr>
        <p:spPr>
          <a:xfrm>
            <a:off x="533520" y="228600"/>
            <a:ext cx="7924680" cy="120024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29"/>
          <p:cNvSpPr/>
          <p:nvPr/>
        </p:nvSpPr>
        <p:spPr>
          <a:xfrm>
            <a:off x="685800" y="380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1"/>
          <p:cNvSpPr/>
          <p:nvPr/>
        </p:nvSpPr>
        <p:spPr>
          <a:xfrm>
            <a:off x="762120" y="2000160"/>
            <a:ext cx="745308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ЬНЫЕ ДАННЫ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МОТ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едность кожных покров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умянец на стороне поражения легких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пес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тавание пораженной стороны грудной клетки при дыха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2"/>
          <p:cNvSpPr/>
          <p:nvPr/>
        </p:nvSpPr>
        <p:spPr>
          <a:xfrm>
            <a:off x="380880" y="1066680"/>
            <a:ext cx="152640" cy="541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images.jpg"/>
          <p:cNvPicPr/>
          <p:nvPr/>
        </p:nvPicPr>
        <p:blipFill>
          <a:blip r:embed="rId1"/>
          <a:stretch/>
        </p:blipFill>
        <p:spPr>
          <a:xfrm>
            <a:off x="428760" y="285840"/>
            <a:ext cx="2038320" cy="31176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210600" y="3500280"/>
            <a:ext cx="25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нужден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ложение боль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Рисунок 4" descr="320852-7331-50.jpg"/>
          <p:cNvPicPr/>
          <p:nvPr/>
        </p:nvPicPr>
        <p:blipFill>
          <a:blip r:embed="rId2"/>
          <a:stretch/>
        </p:blipFill>
        <p:spPr>
          <a:xfrm>
            <a:off x="3071880" y="285840"/>
            <a:ext cx="1857240" cy="247176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175.jpg"/>
          <p:cNvPicPr/>
          <p:nvPr/>
        </p:nvPicPr>
        <p:blipFill>
          <a:blip r:embed="rId3"/>
          <a:stretch/>
        </p:blipFill>
        <p:spPr>
          <a:xfrm>
            <a:off x="4357800" y="1571760"/>
            <a:ext cx="2803320" cy="19047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3437280" y="357192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rpes nasalis, labi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6079320" y="59292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мянец на сторо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ажения лег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9" descr="Картинки по запросу Румянец на стороне  поражения при долевой пневмонии"/>
          <p:cNvPicPr/>
          <p:nvPr/>
        </p:nvPicPr>
        <p:blipFill>
          <a:blip r:embed="rId4"/>
          <a:stretch/>
        </p:blipFill>
        <p:spPr>
          <a:xfrm>
            <a:off x="6072120" y="3879720"/>
            <a:ext cx="30132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26"/>
          <p:cNvSpPr/>
          <p:nvPr/>
        </p:nvSpPr>
        <p:spPr>
          <a:xfrm>
            <a:off x="304920" y="0"/>
            <a:ext cx="83055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ЕСКАЯ КАР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евой пневмо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027"/>
          <p:cNvSpPr/>
          <p:nvPr/>
        </p:nvSpPr>
        <p:spPr>
          <a:xfrm>
            <a:off x="533520" y="228600"/>
            <a:ext cx="7924680" cy="134316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029"/>
          <p:cNvSpPr/>
          <p:nvPr/>
        </p:nvSpPr>
        <p:spPr>
          <a:xfrm>
            <a:off x="685800" y="380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031"/>
          <p:cNvSpPr/>
          <p:nvPr/>
        </p:nvSpPr>
        <p:spPr>
          <a:xfrm>
            <a:off x="714240" y="1571760"/>
            <a:ext cx="80773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ЬНЫЕ ДАННЫ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ПА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иление голосового дрож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КУСС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итупление перкуторного звук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и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пой (бедренный)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куторный звук (во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СКУЛЬТА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бронховезикулярное (жесткое) дыхание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и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онхиальное дыхание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во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епитация (в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и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м трения плевры (во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тадию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иление бронхофо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32"/>
          <p:cNvSpPr/>
          <p:nvPr/>
        </p:nvSpPr>
        <p:spPr>
          <a:xfrm>
            <a:off x="380880" y="1066680"/>
            <a:ext cx="152640" cy="541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Рисунок 7" descr="4041.jpg"/>
          <p:cNvPicPr/>
          <p:nvPr/>
        </p:nvPicPr>
        <p:blipFill>
          <a:blip r:embed="rId2"/>
          <a:stretch/>
        </p:blipFill>
        <p:spPr>
          <a:xfrm>
            <a:off x="6143760" y="1714680"/>
            <a:ext cx="23842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04920" y="0"/>
            <a:ext cx="8305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ЫЕ МЕТОДЫ ДИАГНО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33520" y="228600"/>
            <a:ext cx="7967520" cy="11286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642960" y="1500120"/>
            <a:ext cx="807732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РЕНТГЕНОГРАФИЯ ОРГАНОВ ГРУДНОЙ КЛЕТКИ в 2-х проекциях (назначается и при неполном наборе клинических симптом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685800" y="380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Рисунок 6" descr="17170.jpg"/>
          <p:cNvPicPr/>
          <p:nvPr/>
        </p:nvPicPr>
        <p:blipFill>
          <a:blip r:embed="rId1"/>
          <a:stretch/>
        </p:blipFill>
        <p:spPr>
          <a:xfrm>
            <a:off x="785880" y="364320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7" descr="Flyrografij.jpg"/>
          <p:cNvPicPr/>
          <p:nvPr/>
        </p:nvPicPr>
        <p:blipFill>
          <a:blip r:embed="rId2"/>
          <a:stretch/>
        </p:blipFill>
        <p:spPr>
          <a:xfrm>
            <a:off x="5000760" y="3143160"/>
            <a:ext cx="22143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ТРОЕНИЕ ДЫХАТЕЛЬНОЙ СИСТЕМЫ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214280" y="950760"/>
            <a:ext cx="67867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1" descr="rgk_pnev_pr.jpg"/>
          <p:cNvPicPr/>
          <p:nvPr/>
        </p:nvPicPr>
        <p:blipFill>
          <a:blip r:embed="rId1"/>
          <a:stretch/>
        </p:blipFill>
        <p:spPr>
          <a:xfrm>
            <a:off x="357120" y="214200"/>
            <a:ext cx="4545000" cy="47149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" descr="80710.jpg"/>
          <p:cNvPicPr/>
          <p:nvPr/>
        </p:nvPicPr>
        <p:blipFill>
          <a:blip r:embed="rId2"/>
          <a:stretch/>
        </p:blipFill>
        <p:spPr>
          <a:xfrm>
            <a:off x="4214880" y="1714680"/>
            <a:ext cx="435780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C:\Documents and Settings\sony\My Documents\My Pictures\200303pneumonia.jpg"/>
          <p:cNvPicPr/>
          <p:nvPr/>
        </p:nvPicPr>
        <p:blipFill>
          <a:blip r:embed="rId1"/>
          <a:stretch/>
        </p:blipFill>
        <p:spPr>
          <a:xfrm>
            <a:off x="714240" y="357120"/>
            <a:ext cx="770904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457200" y="152388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ТГЕНОЛОГИЧЕСКОЕ РАЗРЕШЕНИ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НЕВМОНИ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НОРМАЛИЗАЦИ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ОЭ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СХОДЯТ ПОЗЖЕ, ЧЕМ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ЧЕЗНОВЕНИЕ ПРИЗНАКОВ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ТОКСИКАЦИ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ФИЗИКАЛЬНЫХ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04920" y="0"/>
            <a:ext cx="8305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ЫЕ МЕТОДЫ ДИАГНО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33520" y="228600"/>
            <a:ext cx="7967520" cy="11286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42960" y="1500120"/>
            <a:ext cx="80773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ЕСКИЙ АНАЛИЗ КРО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КРОБИОЛОГИЧЕСКОЕ ИССЛЕДО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  окраска по Гра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сев мокроты для выделения возбудителя и определения его чувствительности к антибиотик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685800" y="380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Рисунок 6" descr="staphilo.jpg"/>
          <p:cNvPicPr/>
          <p:nvPr/>
        </p:nvPicPr>
        <p:blipFill>
          <a:blip r:embed="rId1"/>
          <a:stretch/>
        </p:blipFill>
        <p:spPr>
          <a:xfrm>
            <a:off x="714240" y="4071960"/>
            <a:ext cx="2683080" cy="15937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508320" y="5857920"/>
            <a:ext cx="354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Staphylococcus aureus в гно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краска по Грам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Рисунок 8" descr="antibiotic2.jpg"/>
          <p:cNvPicPr/>
          <p:nvPr/>
        </p:nvPicPr>
        <p:blipFill>
          <a:blip r:embed="rId2"/>
          <a:stretch/>
        </p:blipFill>
        <p:spPr>
          <a:xfrm>
            <a:off x="4500720" y="4071960"/>
            <a:ext cx="1904760" cy="1800360"/>
          </a:xfrm>
          <a:prstGeom prst="rect">
            <a:avLst/>
          </a:prstGeom>
          <a:ln w="0">
            <a:noFill/>
          </a:ln>
        </p:spPr>
      </p:pic>
      <p:sp>
        <p:nvSpPr>
          <p:cNvPr id="333" name="TextBox 9"/>
          <p:cNvSpPr/>
          <p:nvPr/>
        </p:nvSpPr>
        <p:spPr>
          <a:xfrm>
            <a:off x="4500720" y="5072040"/>
            <a:ext cx="411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увствитель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слев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малочувствительная (справ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антибиоти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Рисунок 6" descr="staphilo.jpg"/>
          <p:cNvPicPr/>
          <p:nvPr/>
        </p:nvPicPr>
        <p:blipFill>
          <a:blip r:embed="rId3"/>
          <a:stretch/>
        </p:blipFill>
        <p:spPr>
          <a:xfrm>
            <a:off x="714240" y="4071960"/>
            <a:ext cx="2683080" cy="15937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7"/>
          <p:cNvSpPr/>
          <p:nvPr/>
        </p:nvSpPr>
        <p:spPr>
          <a:xfrm>
            <a:off x="508320" y="5857920"/>
            <a:ext cx="354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Staphylococcus aureus в гно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краска по Грам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Рисунок 8" descr="antibiotic2.jpg"/>
          <p:cNvPicPr/>
          <p:nvPr/>
        </p:nvPicPr>
        <p:blipFill>
          <a:blip r:embed="rId4"/>
          <a:stretch/>
        </p:blipFill>
        <p:spPr>
          <a:xfrm>
            <a:off x="4500720" y="4071960"/>
            <a:ext cx="1904760" cy="1800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9"/>
          <p:cNvSpPr/>
          <p:nvPr/>
        </p:nvSpPr>
        <p:spPr>
          <a:xfrm>
            <a:off x="4500720" y="5072040"/>
            <a:ext cx="4119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увствитель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слев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малочувствительная (справа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антибиотик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508320" y="5857920"/>
            <a:ext cx="354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Staphylococcus aureus в гно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краска по Грам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-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ТИКА ЛЕЧЕНИЯ БО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ВМОНИ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990720" y="1038240"/>
            <a:ext cx="7848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бор места лечени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мбулаторное или стационарно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яется тяжестью состояния, в том числе наличием сопутствующих заболеваний и степенью их компенс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бор первоначального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Б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яе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линической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и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пидемиологической ситуац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шествующим путешеств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быванием в боль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рас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новой  патологи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с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пенью тяж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тгенологической карти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ами бактериологического исследования мокр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533520" y="152280"/>
            <a:ext cx="8229600" cy="914400"/>
          </a:xfrm>
          <a:prstGeom prst="flowChartProcess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533520" y="31240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533520" y="12193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Рисунок 6" descr="1e3980a85c07.jpg"/>
          <p:cNvPicPr/>
          <p:nvPr/>
        </p:nvPicPr>
        <p:blipFill>
          <a:blip r:embed="rId1"/>
          <a:stretch/>
        </p:blipFill>
        <p:spPr>
          <a:xfrm>
            <a:off x="6000840" y="4143240"/>
            <a:ext cx="2357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049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МИКРОБНЫЕ ПРЕПАРАТЫ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04920" y="380880"/>
            <a:ext cx="8381880" cy="76212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762120" y="1219320"/>
            <a:ext cx="807696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ПЕНИЦИЛЛ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илпеницилл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УСИНТЕТИЧЕСКИЕ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ициллин, оксацилл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оксациллин, ампицилл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ксициллин, карбенициллин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лоцилин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мбинированные антибиот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мпиокс,  амоксикла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гмент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04920" y="16765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Рисунок 5" descr="augmentin_0375_n20_tabl_po_enl.jpg"/>
          <p:cNvPicPr/>
          <p:nvPr/>
        </p:nvPicPr>
        <p:blipFill>
          <a:blip r:embed="rId1"/>
          <a:stretch/>
        </p:blipFill>
        <p:spPr>
          <a:xfrm>
            <a:off x="738360" y="4643280"/>
            <a:ext cx="1761840" cy="17622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" descr="677.jpg"/>
          <p:cNvPicPr/>
          <p:nvPr/>
        </p:nvPicPr>
        <p:blipFill>
          <a:blip r:embed="rId2"/>
          <a:stretch/>
        </p:blipFill>
        <p:spPr>
          <a:xfrm>
            <a:off x="6215040" y="48578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7" descr="1235806337_amoxy.jpg"/>
          <p:cNvPicPr/>
          <p:nvPr/>
        </p:nvPicPr>
        <p:blipFill>
          <a:blip r:embed="rId3"/>
          <a:stretch/>
        </p:blipFill>
        <p:spPr>
          <a:xfrm>
            <a:off x="6000840" y="1714680"/>
            <a:ext cx="24289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304920" y="1522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МИКРОБНЫЕ ПРЕПАРАТ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04920" y="228600"/>
            <a:ext cx="8381880" cy="9144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762120" y="822240"/>
            <a:ext cx="8076960" cy="59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ЦЕФАЛОСПОР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ЦФС 1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высоко активные в отношение грам (+), стабильны к действию стафилококковой бета-лактамазы, но гидролизуются бета-лактамаз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 (-) бактериями</a:t>
            </a: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цефазол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ЦФС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о активны в отношение грам (-)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цефамандол, цефатаксим – клафоран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ЦФС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наибольшей активностью против синегнойной палочки 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цефтазидим – форту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ЦФС IV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активны против бактероидов и др. анаэробов, стабильны к действию бета-лактамаз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 моксалактам –мокс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5"/>
          <p:cNvSpPr/>
          <p:nvPr/>
        </p:nvSpPr>
        <p:spPr>
          <a:xfrm>
            <a:off x="228600" y="15238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47d53a75703ea.jpg"/>
          <p:cNvPicPr/>
          <p:nvPr/>
        </p:nvPicPr>
        <p:blipFill>
          <a:blip r:embed="rId1"/>
          <a:stretch/>
        </p:blipFill>
        <p:spPr>
          <a:xfrm>
            <a:off x="3143160" y="2643120"/>
            <a:ext cx="2791080" cy="18576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" descr="47d53afc6f1a4.jpg"/>
          <p:cNvPicPr/>
          <p:nvPr/>
        </p:nvPicPr>
        <p:blipFill>
          <a:blip r:embed="rId2"/>
          <a:stretch/>
        </p:blipFill>
        <p:spPr>
          <a:xfrm>
            <a:off x="5357880" y="1714680"/>
            <a:ext cx="2790720" cy="18572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16652.jpg"/>
          <p:cNvPicPr/>
          <p:nvPr/>
        </p:nvPicPr>
        <p:blipFill>
          <a:blip r:embed="rId3"/>
          <a:stretch/>
        </p:blipFill>
        <p:spPr>
          <a:xfrm>
            <a:off x="5143680" y="4071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5" descr="fortum.jpg"/>
          <p:cNvPicPr/>
          <p:nvPr/>
        </p:nvPicPr>
        <p:blipFill>
          <a:blip r:embed="rId4"/>
          <a:stretch/>
        </p:blipFill>
        <p:spPr>
          <a:xfrm>
            <a:off x="2928960" y="428760"/>
            <a:ext cx="2214720" cy="22143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" descr="cefoperazon.gif"/>
          <p:cNvPicPr/>
          <p:nvPr/>
        </p:nvPicPr>
        <p:blipFill>
          <a:blip r:embed="rId5"/>
          <a:stretch/>
        </p:blipFill>
        <p:spPr>
          <a:xfrm>
            <a:off x="3143160" y="4643280"/>
            <a:ext cx="1924200" cy="19051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7" descr="Cefaleksin.gif"/>
          <p:cNvPicPr/>
          <p:nvPr/>
        </p:nvPicPr>
        <p:blipFill>
          <a:blip r:embed="rId6"/>
          <a:stretch/>
        </p:blipFill>
        <p:spPr>
          <a:xfrm>
            <a:off x="6000840" y="4929120"/>
            <a:ext cx="2828880" cy="17384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8" descr="small127375083.jpg"/>
          <p:cNvPicPr/>
          <p:nvPr/>
        </p:nvPicPr>
        <p:blipFill>
          <a:blip r:embed="rId7"/>
          <a:stretch/>
        </p:blipFill>
        <p:spPr>
          <a:xfrm>
            <a:off x="928800" y="2786040"/>
            <a:ext cx="2714400" cy="209880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0" descr="cefurus-15.jpg"/>
          <p:cNvPicPr/>
          <p:nvPr/>
        </p:nvPicPr>
        <p:blipFill>
          <a:blip r:embed="rId8"/>
          <a:stretch/>
        </p:blipFill>
        <p:spPr>
          <a:xfrm>
            <a:off x="500040" y="4357800"/>
            <a:ext cx="2090880" cy="20905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1" descr="ceftazidim.jpg"/>
          <p:cNvPicPr/>
          <p:nvPr/>
        </p:nvPicPr>
        <p:blipFill>
          <a:blip r:embed="rId9"/>
          <a:stretch/>
        </p:blipFill>
        <p:spPr>
          <a:xfrm>
            <a:off x="428760" y="357120"/>
            <a:ext cx="2466720" cy="2684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2" descr="sulcef.jpg"/>
          <p:cNvPicPr/>
          <p:nvPr/>
        </p:nvPicPr>
        <p:blipFill>
          <a:blip r:embed="rId10"/>
          <a:stretch/>
        </p:blipFill>
        <p:spPr>
          <a:xfrm>
            <a:off x="7000920" y="328608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3" descr="untitled.bmp"/>
          <p:cNvPicPr/>
          <p:nvPr/>
        </p:nvPicPr>
        <p:blipFill>
          <a:blip r:embed="rId11"/>
          <a:stretch/>
        </p:blipFill>
        <p:spPr>
          <a:xfrm>
            <a:off x="6977160" y="2142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4" descr="product_1706.jpg"/>
          <p:cNvPicPr/>
          <p:nvPr/>
        </p:nvPicPr>
        <p:blipFill>
          <a:blip r:embed="rId12"/>
          <a:stretch/>
        </p:blipFill>
        <p:spPr>
          <a:xfrm>
            <a:off x="4929120" y="285840"/>
            <a:ext cx="1936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049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МИКРОБНЫЕ ПРЕПАРАТ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04920" y="380880"/>
            <a:ext cx="8381880" cy="9144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62120" y="1219320"/>
            <a:ext cx="807696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КАРБАПЕН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о активны против грам (-), в том числ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будителей госпитальной пневмо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имипенем – целастин, меропене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ГЛИКОПЕПТ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йствуют на грам (+)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ванкомицин</a:t>
            </a: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ристомиц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АМИНОГЛИКОЗ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окий спектр действ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том числе на грам (-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поколение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(мономиц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 поколение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(гентамиц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 поколение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(амикац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304920" y="160020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304920" y="33526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228600" y="487692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Рисунок 7" descr="196_7_mini.jpg"/>
          <p:cNvPicPr/>
          <p:nvPr/>
        </p:nvPicPr>
        <p:blipFill>
          <a:blip r:embed="rId1"/>
          <a:stretch/>
        </p:blipFill>
        <p:spPr>
          <a:xfrm>
            <a:off x="6929280" y="1500120"/>
            <a:ext cx="1810080" cy="25131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8" descr="vankomec.jpg"/>
          <p:cNvPicPr/>
          <p:nvPr/>
        </p:nvPicPr>
        <p:blipFill>
          <a:blip r:embed="rId2"/>
          <a:stretch/>
        </p:blipFill>
        <p:spPr>
          <a:xfrm>
            <a:off x="4572000" y="321480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9" descr="16_14364.jpg"/>
          <p:cNvPicPr/>
          <p:nvPr/>
        </p:nvPicPr>
        <p:blipFill>
          <a:blip r:embed="rId3"/>
          <a:stretch/>
        </p:blipFill>
        <p:spPr>
          <a:xfrm>
            <a:off x="6286680" y="4429080"/>
            <a:ext cx="2381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04920" y="228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МИКРОБНЫЕ ПРЕПАРАТ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04920" y="380880"/>
            <a:ext cx="8381880" cy="9144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762120" y="1219320"/>
            <a:ext cx="80769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МАКРОЛ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апливаются внутри клетки и применяются при атипичных пневмониях</a:t>
            </a: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эритромицин, спирамицин, сумамед , рулид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ТЕТРАЦИКЛ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окого спектра действия, в том числе, на внутриклеточно расположенные микроорганизмы 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(доксициклин, моноциклин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ФТОРХИНОЛО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окого спектра действия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(ципрофлоксацин, абактал и д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304920" y="160020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04920" y="33526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228600" y="5181480"/>
            <a:ext cx="457200" cy="22860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642960"/>
            <a:ext cx="815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ВМОН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группа различных по этиологии, патогенезу, морфологической характеристике острых инфекционных (преимущественно бактериальных) заболеваний, характеризующихся очаговым поражением респираторных отделов легких с обязательным наличием внутриальвеолярной экссуд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Documents and Settings\sony\My Documents\My Pictures\PneumNeonat.jpg"/>
          <p:cNvPicPr/>
          <p:nvPr/>
        </p:nvPicPr>
        <p:blipFill>
          <a:blip r:embed="rId1"/>
          <a:stretch/>
        </p:blipFill>
        <p:spPr>
          <a:xfrm>
            <a:off x="533520" y="181080"/>
            <a:ext cx="8076960" cy="6495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066680" y="304920"/>
            <a:ext cx="7620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Л КОРНЕЛИЙ ЦЕЛЬС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 до н. эры) – первые упоминания о воспалении в респираторных отделах дыхательного тра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ЛЛИС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684 г.) – подробно описал симптомы острой лихорадки, кашля и затрудненного дых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ЭННЕК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781- 1826 г.) – описал аускультативную картину пневмо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КИТАНСКИ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04-1878 г.)- выделил 2 морфологических варианта пневмонии – долевую и бронхопневмо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ТГЕН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845-1923г.)- открыл рентгеновские лучи и исследовал их свойст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034360" y="428760"/>
            <a:ext cx="53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СПРОСТРАН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00040" y="1143000"/>
            <a:ext cx="4643640" cy="1143000"/>
          </a:xfrm>
          <a:prstGeom prst="rect">
            <a:avLst/>
          </a:prstGeom>
          <a:solidFill>
            <a:srgbClr val="2626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-15 ЧЕЛОВЕК НА 1000 НАС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2786040" y="2500200"/>
            <a:ext cx="6072120" cy="178596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МЕРТ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внебольничных пневмоний – 5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озокомиальных пневмоний – 20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пожилых – 3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5"/>
          <p:cNvSpPr/>
          <p:nvPr/>
        </p:nvSpPr>
        <p:spPr>
          <a:xfrm>
            <a:off x="214200" y="4500720"/>
            <a:ext cx="8643960" cy="2143080"/>
          </a:xfrm>
          <a:prstGeom prst="ellipse">
            <a:avLst/>
          </a:prstGeom>
          <a:solidFill>
            <a:srgbClr val="00664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ШИБКИ В ДИАГНОС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ИАГНОЗ ПНЕВМОНИИ В ПЕРВЫЕ 3 ДНЯ СТАВИТСЯ У 35% ЗАБОЛЕВШ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71680" y="357120"/>
            <a:ext cx="7786440" cy="8571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2" descr="Mycoplasma_pneumoniae.jpg"/>
          <p:cNvPicPr/>
          <p:nvPr/>
        </p:nvPicPr>
        <p:blipFill>
          <a:blip r:embed="rId1"/>
          <a:stretch/>
        </p:blipFill>
        <p:spPr>
          <a:xfrm>
            <a:off x="214200" y="1571760"/>
            <a:ext cx="235764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8640" y="3429000"/>
            <a:ext cx="29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ycoplasma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4" descr="Streptococcus pneumoniae.jpg"/>
          <p:cNvPicPr/>
          <p:nvPr/>
        </p:nvPicPr>
        <p:blipFill>
          <a:blip r:embed="rId2"/>
          <a:stretch/>
        </p:blipFill>
        <p:spPr>
          <a:xfrm>
            <a:off x="3143160" y="1571760"/>
            <a:ext cx="2857680" cy="2214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3007800" y="392904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us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6" descr="Haemophilus influenza .jpg"/>
          <p:cNvPicPr/>
          <p:nvPr/>
        </p:nvPicPr>
        <p:blipFill>
          <a:blip r:embed="rId3"/>
          <a:stretch/>
        </p:blipFill>
        <p:spPr>
          <a:xfrm>
            <a:off x="6429240" y="1643040"/>
            <a:ext cx="2214720" cy="1635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6366600" y="3500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emophilus 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Рисунок 8" descr="Chlamydia pneumoniae .jpg"/>
          <p:cNvPicPr/>
          <p:nvPr/>
        </p:nvPicPr>
        <p:blipFill>
          <a:blip r:embed="rId4"/>
          <a:stretch/>
        </p:blipFill>
        <p:spPr>
          <a:xfrm>
            <a:off x="357120" y="4286160"/>
            <a:ext cx="2328840" cy="1714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285840" y="61437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amydia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10" descr="Legionella pneumoniae .gif"/>
          <p:cNvPicPr/>
          <p:nvPr/>
        </p:nvPicPr>
        <p:blipFill>
          <a:blip r:embed="rId5"/>
          <a:stretch/>
        </p:blipFill>
        <p:spPr>
          <a:xfrm>
            <a:off x="3286080" y="4357800"/>
            <a:ext cx="2425680" cy="1714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1"/>
          <p:cNvSpPr/>
          <p:nvPr/>
        </p:nvSpPr>
        <p:spPr>
          <a:xfrm>
            <a:off x="3224520" y="61437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onella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12" descr="Staphilococcus aureus .jpg"/>
          <p:cNvPicPr/>
          <p:nvPr/>
        </p:nvPicPr>
        <p:blipFill>
          <a:blip r:embed="rId6"/>
          <a:stretch/>
        </p:blipFill>
        <p:spPr>
          <a:xfrm>
            <a:off x="6215040" y="4214880"/>
            <a:ext cx="2524320" cy="1714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3"/>
          <p:cNvSpPr/>
          <p:nvPr/>
        </p:nvSpPr>
        <p:spPr>
          <a:xfrm>
            <a:off x="6220800" y="6072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ilococcu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219320" y="685800"/>
            <a:ext cx="6172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БОЛЬНИЧНАЯ ПНЕВМ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143000" y="838080"/>
            <a:ext cx="6172200" cy="6858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838080" y="1676520"/>
            <a:ext cx="859176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eptococcus pneumonia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0-90%)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coplasma pneumoniae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до 30% до 45 лет и до 9% старше 45 лет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emophilus influenz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5-18%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lamydia pneumonia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-8%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gionella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neumonia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-10%)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hilococcus aureu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ее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5%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мотрицательные микроорганизмы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редк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 гриппа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 период эпидеми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-30% этиология пневмонии не устанавли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0"/>
          <p:cNvGrpSpPr/>
          <p:nvPr/>
        </p:nvGrpSpPr>
        <p:grpSpPr>
          <a:xfrm>
            <a:off x="457200" y="2057400"/>
            <a:ext cx="380880" cy="4190760"/>
            <a:chOff x="457200" y="2057400"/>
            <a:chExt cx="380880" cy="4190760"/>
          </a:xfrm>
        </p:grpSpPr>
        <p:sp>
          <p:nvSpPr>
            <p:cNvPr id="77" name="AutoShape 14"/>
            <p:cNvSpPr/>
            <p:nvPr/>
          </p:nvSpPr>
          <p:spPr>
            <a:xfrm>
              <a:off x="457200" y="2057400"/>
              <a:ext cx="30492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AutoShape 15"/>
            <p:cNvSpPr/>
            <p:nvPr/>
          </p:nvSpPr>
          <p:spPr>
            <a:xfrm>
              <a:off x="457200" y="2514600"/>
              <a:ext cx="30492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57200" y="3047760"/>
              <a:ext cx="304920" cy="15264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21"/>
            <p:cNvSpPr/>
            <p:nvPr/>
          </p:nvSpPr>
          <p:spPr>
            <a:xfrm>
              <a:off x="457200" y="3504960"/>
              <a:ext cx="304920" cy="15264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22"/>
            <p:cNvSpPr/>
            <p:nvPr/>
          </p:nvSpPr>
          <p:spPr>
            <a:xfrm>
              <a:off x="457200" y="4038480"/>
              <a:ext cx="30492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23"/>
            <p:cNvSpPr/>
            <p:nvPr/>
          </p:nvSpPr>
          <p:spPr>
            <a:xfrm>
              <a:off x="457200" y="4572000"/>
              <a:ext cx="30492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utoShape 24"/>
            <p:cNvSpPr/>
            <p:nvPr/>
          </p:nvSpPr>
          <p:spPr>
            <a:xfrm>
              <a:off x="457200" y="5029200"/>
              <a:ext cx="30492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5"/>
            <p:cNvSpPr/>
            <p:nvPr/>
          </p:nvSpPr>
          <p:spPr>
            <a:xfrm>
              <a:off x="457200" y="5562360"/>
              <a:ext cx="304920" cy="15264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26"/>
            <p:cNvSpPr/>
            <p:nvPr/>
          </p:nvSpPr>
          <p:spPr>
            <a:xfrm>
              <a:off x="533520" y="6095880"/>
              <a:ext cx="304560" cy="152280"/>
            </a:xfrm>
            <a:prstGeom prst="flowChartDecis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Rectangle 29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ТИОЛОГИЧЕСКАЯ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СИФИКАЦИЯ.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71680" y="357120"/>
            <a:ext cx="7786440" cy="8571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0240" y="350028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monas aerugi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3" descr="Pseudomonas aeruginosa.jpg"/>
          <p:cNvPicPr/>
          <p:nvPr/>
        </p:nvPicPr>
        <p:blipFill>
          <a:blip r:embed="rId1"/>
          <a:stretch/>
        </p:blipFill>
        <p:spPr>
          <a:xfrm>
            <a:off x="357120" y="1357200"/>
            <a:ext cx="1968480" cy="19684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Klebsiella pneumoniae.jpg"/>
          <p:cNvPicPr/>
          <p:nvPr/>
        </p:nvPicPr>
        <p:blipFill>
          <a:blip r:embed="rId2"/>
          <a:stretch/>
        </p:blipFill>
        <p:spPr>
          <a:xfrm>
            <a:off x="3000240" y="1357200"/>
            <a:ext cx="2772000" cy="2048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151800" y="357192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ebsiella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6" descr="Enterobacter spp.jpg"/>
          <p:cNvPicPr/>
          <p:nvPr/>
        </p:nvPicPr>
        <p:blipFill>
          <a:blip r:embed="rId3"/>
          <a:stretch/>
        </p:blipFill>
        <p:spPr>
          <a:xfrm>
            <a:off x="6215040" y="1428840"/>
            <a:ext cx="2357640" cy="1728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6222600" y="350028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obacter s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8" descr="Staphilococcus aureus .jpg"/>
          <p:cNvPicPr/>
          <p:nvPr/>
        </p:nvPicPr>
        <p:blipFill>
          <a:blip r:embed="rId4"/>
          <a:stretch/>
        </p:blipFill>
        <p:spPr>
          <a:xfrm>
            <a:off x="3214800" y="4286160"/>
            <a:ext cx="2523960" cy="1714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3220560" y="614376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ilococcus aur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26"/>
          <p:cNvSpPr/>
          <p:nvPr/>
        </p:nvSpPr>
        <p:spPr>
          <a:xfrm>
            <a:off x="1219320" y="685800"/>
            <a:ext cx="6172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ТР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НИЧНАЯ ПНЕВМ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27"/>
          <p:cNvSpPr/>
          <p:nvPr/>
        </p:nvSpPr>
        <p:spPr>
          <a:xfrm>
            <a:off x="1143000" y="838080"/>
            <a:ext cx="6324480" cy="685800"/>
          </a:xfrm>
          <a:prstGeom prst="rect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28"/>
          <p:cNvSpPr/>
          <p:nvPr/>
        </p:nvSpPr>
        <p:spPr>
          <a:xfrm>
            <a:off x="838080" y="1676520"/>
            <a:ext cx="80773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ется через 48 и более часов после поступления больного в стациона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отрицательные аэробные микроорганизмы, особен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monas aerugino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lebsiella pneumonia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erobacter s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мположитель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philococcus aureus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33"/>
          <p:cNvSpPr/>
          <p:nvPr/>
        </p:nvSpPr>
        <p:spPr>
          <a:xfrm>
            <a:off x="457200" y="35053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34"/>
          <p:cNvSpPr/>
          <p:nvPr/>
        </p:nvSpPr>
        <p:spPr>
          <a:xfrm>
            <a:off x="457200" y="4038480"/>
            <a:ext cx="304920" cy="15264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35"/>
          <p:cNvSpPr/>
          <p:nvPr/>
        </p:nvSpPr>
        <p:spPr>
          <a:xfrm>
            <a:off x="457200" y="457200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7"/>
          <p:cNvSpPr/>
          <p:nvPr/>
        </p:nvSpPr>
        <p:spPr>
          <a:xfrm>
            <a:off x="457200" y="5562720"/>
            <a:ext cx="304920" cy="15228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39"/>
          <p:cNvSpPr/>
          <p:nvPr/>
        </p:nvSpPr>
        <p:spPr>
          <a:xfrm>
            <a:off x="0" y="228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ТИОЛОГИЧЕСКАЯ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СИФИКАЦИЯ.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041"/>
          <p:cNvSpPr/>
          <p:nvPr/>
        </p:nvSpPr>
        <p:spPr>
          <a:xfrm>
            <a:off x="5397480" y="3470400"/>
            <a:ext cx="3011400" cy="2939760"/>
          </a:xfrm>
          <a:prstGeom prst="pi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042"/>
          <p:cNvSpPr/>
          <p:nvPr/>
        </p:nvSpPr>
        <p:spPr>
          <a:xfrm>
            <a:off x="5238720" y="3389400"/>
            <a:ext cx="3300480" cy="2851200"/>
          </a:xfrm>
          <a:prstGeom prst="pi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043"/>
          <p:cNvSpPr/>
          <p:nvPr/>
        </p:nvSpPr>
        <p:spPr>
          <a:xfrm>
            <a:off x="5859360" y="3078000"/>
            <a:ext cx="1925640" cy="334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044"/>
          <p:cNvSpPr/>
          <p:nvPr/>
        </p:nvSpPr>
        <p:spPr>
          <a:xfrm>
            <a:off x="7380360" y="4502160"/>
            <a:ext cx="245880" cy="795240"/>
          </a:xfrm>
          <a:prstGeom prst="pie">
            <a:avLst/>
          </a:prstGeom>
          <a:solidFill>
            <a:srgbClr val="d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045"/>
          <p:cNvSpPr/>
          <p:nvPr/>
        </p:nvSpPr>
        <p:spPr>
          <a:xfrm>
            <a:off x="5935680" y="5889600"/>
            <a:ext cx="380880" cy="233280"/>
          </a:xfrm>
          <a:prstGeom prst="pie">
            <a:avLst/>
          </a:prstGeom>
          <a:solidFill>
            <a:srgbClr val="d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46"/>
          <p:cNvSpPr/>
          <p:nvPr/>
        </p:nvSpPr>
        <p:spPr>
          <a:xfrm>
            <a:off x="6345360" y="5649840"/>
            <a:ext cx="718920" cy="385920"/>
          </a:xfrm>
          <a:prstGeom prst="pie">
            <a:avLst/>
          </a:prstGeom>
          <a:solidFill>
            <a:srgbClr val="ff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047"/>
          <p:cNvSpPr/>
          <p:nvPr/>
        </p:nvSpPr>
        <p:spPr>
          <a:xfrm>
            <a:off x="7023240" y="6140520"/>
            <a:ext cx="509400" cy="339480"/>
          </a:xfrm>
          <a:prstGeom prst="pie">
            <a:avLst/>
          </a:prstGeom>
          <a:solidFill>
            <a:srgbClr val="d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48"/>
          <p:cNvSpPr/>
          <p:nvPr/>
        </p:nvSpPr>
        <p:spPr>
          <a:xfrm>
            <a:off x="6848640" y="3348000"/>
            <a:ext cx="884160" cy="1023840"/>
          </a:xfrm>
          <a:prstGeom prst="pie">
            <a:avLst/>
          </a:prstGeom>
          <a:solidFill>
            <a:srgbClr val="ff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1049"/>
          <p:cNvSpPr/>
          <p:nvPr/>
        </p:nvSpPr>
        <p:spPr>
          <a:xfrm>
            <a:off x="7157880" y="3822840"/>
            <a:ext cx="671760" cy="2657160"/>
          </a:xfrm>
          <a:prstGeom prst="pie">
            <a:avLst/>
          </a:prstGeom>
          <a:solidFill>
            <a:srgbClr val="b5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050"/>
          <p:cNvSpPr/>
          <p:nvPr/>
        </p:nvSpPr>
        <p:spPr>
          <a:xfrm>
            <a:off x="7070760" y="5443560"/>
            <a:ext cx="642960" cy="51588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051"/>
          <p:cNvSpPr/>
          <p:nvPr/>
        </p:nvSpPr>
        <p:spPr>
          <a:xfrm>
            <a:off x="6362640" y="5222880"/>
            <a:ext cx="701640" cy="244440"/>
          </a:xfrm>
          <a:prstGeom prst="pie">
            <a:avLst/>
          </a:prstGeom>
          <a:solidFill>
            <a:srgbClr val="d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052"/>
          <p:cNvSpPr/>
          <p:nvPr/>
        </p:nvSpPr>
        <p:spPr>
          <a:xfrm>
            <a:off x="7023240" y="5334120"/>
            <a:ext cx="263520" cy="156960"/>
          </a:xfrm>
          <a:prstGeom prst="pie">
            <a:avLst/>
          </a:prstGeom>
          <a:solidFill>
            <a:srgbClr val="d8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53"/>
          <p:cNvSpPr/>
          <p:nvPr/>
        </p:nvSpPr>
        <p:spPr>
          <a:xfrm>
            <a:off x="6772320" y="3324240"/>
            <a:ext cx="385560" cy="1271520"/>
          </a:xfrm>
          <a:prstGeom prst="pie">
            <a:avLst/>
          </a:prstGeom>
          <a:solidFill>
            <a:srgbClr val="b5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054"/>
          <p:cNvSpPr/>
          <p:nvPr/>
        </p:nvSpPr>
        <p:spPr>
          <a:xfrm>
            <a:off x="6192720" y="5854680"/>
            <a:ext cx="368280" cy="29196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55"/>
          <p:cNvSpPr/>
          <p:nvPr/>
        </p:nvSpPr>
        <p:spPr>
          <a:xfrm>
            <a:off x="6280200" y="5479920"/>
            <a:ext cx="1200240" cy="503280"/>
          </a:xfrm>
          <a:prstGeom prst="pie">
            <a:avLst/>
          </a:pr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056"/>
          <p:cNvSpPr/>
          <p:nvPr/>
        </p:nvSpPr>
        <p:spPr>
          <a:xfrm>
            <a:off x="6912000" y="3108240"/>
            <a:ext cx="187200" cy="211320"/>
          </a:xfrm>
          <a:prstGeom prst="pie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057"/>
          <p:cNvSpPr/>
          <p:nvPr/>
        </p:nvSpPr>
        <p:spPr>
          <a:xfrm>
            <a:off x="6573960" y="3992400"/>
            <a:ext cx="214200" cy="4622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058"/>
          <p:cNvSpPr/>
          <p:nvPr/>
        </p:nvSpPr>
        <p:spPr>
          <a:xfrm>
            <a:off x="7034040" y="3933720"/>
            <a:ext cx="339840" cy="55728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1059"/>
          <p:cNvSpPr/>
          <p:nvPr/>
        </p:nvSpPr>
        <p:spPr>
          <a:xfrm>
            <a:off x="6467400" y="4630680"/>
            <a:ext cx="843120" cy="3272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060"/>
          <p:cNvSpPr/>
          <p:nvPr/>
        </p:nvSpPr>
        <p:spPr>
          <a:xfrm>
            <a:off x="6485040" y="5081760"/>
            <a:ext cx="287280" cy="1411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061"/>
          <p:cNvSpPr/>
          <p:nvPr/>
        </p:nvSpPr>
        <p:spPr>
          <a:xfrm>
            <a:off x="6931080" y="5187960"/>
            <a:ext cx="407880" cy="29196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062"/>
          <p:cNvSpPr/>
          <p:nvPr/>
        </p:nvSpPr>
        <p:spPr>
          <a:xfrm>
            <a:off x="5877000" y="5286240"/>
            <a:ext cx="1725480" cy="46836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1063"/>
          <p:cNvSpPr/>
          <p:nvPr/>
        </p:nvSpPr>
        <p:spPr>
          <a:xfrm>
            <a:off x="6691320" y="5203800"/>
            <a:ext cx="150840" cy="7164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064"/>
          <p:cNvSpPr/>
          <p:nvPr/>
        </p:nvSpPr>
        <p:spPr>
          <a:xfrm>
            <a:off x="6532560" y="5275440"/>
            <a:ext cx="385920" cy="168120"/>
          </a:xfrm>
          <a:prstGeom prst="pie">
            <a:avLst/>
          </a:prstGeom>
          <a:solidFill>
            <a:srgbClr val="f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065"/>
          <p:cNvSpPr/>
          <p:nvPr/>
        </p:nvSpPr>
        <p:spPr>
          <a:xfrm>
            <a:off x="7186680" y="4062240"/>
            <a:ext cx="222120" cy="403560"/>
          </a:xfrm>
          <a:prstGeom prst="pie">
            <a:avLst/>
          </a:pr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66"/>
          <p:cNvSpPr/>
          <p:nvPr/>
        </p:nvSpPr>
        <p:spPr>
          <a:xfrm>
            <a:off x="6672240" y="4033800"/>
            <a:ext cx="87480" cy="420840"/>
          </a:xfrm>
          <a:prstGeom prst="pie">
            <a:avLst/>
          </a:pr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067"/>
          <p:cNvSpPr/>
          <p:nvPr/>
        </p:nvSpPr>
        <p:spPr>
          <a:xfrm>
            <a:off x="6959520" y="5340240"/>
            <a:ext cx="642960" cy="392400"/>
          </a:xfrm>
          <a:prstGeom prst="pie">
            <a:avLst/>
          </a:pr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68"/>
          <p:cNvSpPr/>
          <p:nvPr/>
        </p:nvSpPr>
        <p:spPr>
          <a:xfrm>
            <a:off x="6946920" y="3143160"/>
            <a:ext cx="141120" cy="176400"/>
          </a:xfrm>
          <a:prstGeom prst="pie">
            <a:avLst/>
          </a:pr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069"/>
          <p:cNvSpPr/>
          <p:nvPr/>
        </p:nvSpPr>
        <p:spPr>
          <a:xfrm>
            <a:off x="6959520" y="3459240"/>
            <a:ext cx="152640" cy="63792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70"/>
          <p:cNvSpPr/>
          <p:nvPr/>
        </p:nvSpPr>
        <p:spPr>
          <a:xfrm>
            <a:off x="7000920" y="4354560"/>
            <a:ext cx="146160" cy="24120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071"/>
          <p:cNvSpPr/>
          <p:nvPr/>
        </p:nvSpPr>
        <p:spPr>
          <a:xfrm>
            <a:off x="7358040" y="4249800"/>
            <a:ext cx="262080" cy="45720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072"/>
          <p:cNvSpPr/>
          <p:nvPr/>
        </p:nvSpPr>
        <p:spPr>
          <a:xfrm>
            <a:off x="7315200" y="5826240"/>
            <a:ext cx="514440" cy="618840"/>
          </a:xfrm>
          <a:prstGeom prst="pie">
            <a:avLst/>
          </a:prstGeom>
          <a:solidFill>
            <a:srgbClr val="75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073"/>
          <p:cNvSpPr/>
          <p:nvPr/>
        </p:nvSpPr>
        <p:spPr>
          <a:xfrm>
            <a:off x="6859440" y="3067200"/>
            <a:ext cx="257400" cy="83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74"/>
          <p:cNvSpPr/>
          <p:nvPr/>
        </p:nvSpPr>
        <p:spPr>
          <a:xfrm>
            <a:off x="7054920" y="3124080"/>
            <a:ext cx="73080" cy="239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075"/>
          <p:cNvSpPr/>
          <p:nvPr/>
        </p:nvSpPr>
        <p:spPr>
          <a:xfrm>
            <a:off x="6796080" y="3301920"/>
            <a:ext cx="365040" cy="98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076"/>
          <p:cNvSpPr/>
          <p:nvPr/>
        </p:nvSpPr>
        <p:spPr>
          <a:xfrm>
            <a:off x="7115040" y="3367080"/>
            <a:ext cx="69840" cy="598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077"/>
          <p:cNvSpPr/>
          <p:nvPr/>
        </p:nvSpPr>
        <p:spPr>
          <a:xfrm>
            <a:off x="6970680" y="3944880"/>
            <a:ext cx="160200" cy="55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078"/>
          <p:cNvSpPr/>
          <p:nvPr/>
        </p:nvSpPr>
        <p:spPr>
          <a:xfrm>
            <a:off x="6637320" y="4002120"/>
            <a:ext cx="123840" cy="48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079"/>
          <p:cNvSpPr/>
          <p:nvPr/>
        </p:nvSpPr>
        <p:spPr>
          <a:xfrm>
            <a:off x="6595920" y="4448160"/>
            <a:ext cx="163800" cy="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080"/>
          <p:cNvSpPr/>
          <p:nvPr/>
        </p:nvSpPr>
        <p:spPr>
          <a:xfrm>
            <a:off x="6519960" y="4008600"/>
            <a:ext cx="104760" cy="482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081"/>
          <p:cNvSpPr/>
          <p:nvPr/>
        </p:nvSpPr>
        <p:spPr>
          <a:xfrm>
            <a:off x="6742080" y="3387600"/>
            <a:ext cx="61920" cy="117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082"/>
          <p:cNvSpPr/>
          <p:nvPr/>
        </p:nvSpPr>
        <p:spPr>
          <a:xfrm>
            <a:off x="6427800" y="4587840"/>
            <a:ext cx="54000" cy="1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083"/>
          <p:cNvSpPr/>
          <p:nvPr/>
        </p:nvSpPr>
        <p:spPr>
          <a:xfrm>
            <a:off x="6456240" y="4621320"/>
            <a:ext cx="650880" cy="139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1084"/>
          <p:cNvSpPr/>
          <p:nvPr/>
        </p:nvSpPr>
        <p:spPr>
          <a:xfrm>
            <a:off x="6545160" y="4530600"/>
            <a:ext cx="77148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085"/>
          <p:cNvSpPr/>
          <p:nvPr/>
        </p:nvSpPr>
        <p:spPr>
          <a:xfrm>
            <a:off x="7291440" y="4664160"/>
            <a:ext cx="38160" cy="168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86"/>
          <p:cNvSpPr/>
          <p:nvPr/>
        </p:nvSpPr>
        <p:spPr>
          <a:xfrm>
            <a:off x="6535800" y="4832280"/>
            <a:ext cx="190440" cy="8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87"/>
          <p:cNvSpPr/>
          <p:nvPr/>
        </p:nvSpPr>
        <p:spPr>
          <a:xfrm>
            <a:off x="6710400" y="4740120"/>
            <a:ext cx="4284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1088"/>
          <p:cNvSpPr/>
          <p:nvPr/>
        </p:nvSpPr>
        <p:spPr>
          <a:xfrm>
            <a:off x="6562800" y="4708440"/>
            <a:ext cx="19044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89"/>
          <p:cNvSpPr/>
          <p:nvPr/>
        </p:nvSpPr>
        <p:spPr>
          <a:xfrm>
            <a:off x="6524640" y="4773600"/>
            <a:ext cx="334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90"/>
          <p:cNvSpPr/>
          <p:nvPr/>
        </p:nvSpPr>
        <p:spPr>
          <a:xfrm>
            <a:off x="6797520" y="4923000"/>
            <a:ext cx="250920" cy="10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1091"/>
          <p:cNvSpPr/>
          <p:nvPr/>
        </p:nvSpPr>
        <p:spPr>
          <a:xfrm>
            <a:off x="6786720" y="4740120"/>
            <a:ext cx="37800" cy="228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92"/>
          <p:cNvSpPr/>
          <p:nvPr/>
        </p:nvSpPr>
        <p:spPr>
          <a:xfrm>
            <a:off x="7021440" y="4734000"/>
            <a:ext cx="34920" cy="258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1093"/>
          <p:cNvSpPr/>
          <p:nvPr/>
        </p:nvSpPr>
        <p:spPr>
          <a:xfrm>
            <a:off x="6845400" y="4707000"/>
            <a:ext cx="18720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94"/>
          <p:cNvSpPr/>
          <p:nvPr/>
        </p:nvSpPr>
        <p:spPr>
          <a:xfrm>
            <a:off x="7085160" y="4721400"/>
            <a:ext cx="155520" cy="5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1095"/>
          <p:cNvSpPr/>
          <p:nvPr/>
        </p:nvSpPr>
        <p:spPr>
          <a:xfrm>
            <a:off x="7221600" y="4757760"/>
            <a:ext cx="3312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96"/>
          <p:cNvSpPr/>
          <p:nvPr/>
        </p:nvSpPr>
        <p:spPr>
          <a:xfrm>
            <a:off x="7093080" y="4876920"/>
            <a:ext cx="153720" cy="10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097"/>
          <p:cNvSpPr/>
          <p:nvPr/>
        </p:nvSpPr>
        <p:spPr>
          <a:xfrm>
            <a:off x="6729480" y="4805280"/>
            <a:ext cx="74520" cy="50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098"/>
          <p:cNvSpPr/>
          <p:nvPr/>
        </p:nvSpPr>
        <p:spPr>
          <a:xfrm>
            <a:off x="7229520" y="4822920"/>
            <a:ext cx="69840" cy="4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099"/>
          <p:cNvSpPr/>
          <p:nvPr/>
        </p:nvSpPr>
        <p:spPr>
          <a:xfrm>
            <a:off x="6443640" y="4743360"/>
            <a:ext cx="98280" cy="66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100"/>
          <p:cNvSpPr/>
          <p:nvPr/>
        </p:nvSpPr>
        <p:spPr>
          <a:xfrm>
            <a:off x="6232680" y="5149800"/>
            <a:ext cx="569880" cy="185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01"/>
          <p:cNvSpPr/>
          <p:nvPr/>
        </p:nvSpPr>
        <p:spPr>
          <a:xfrm>
            <a:off x="6148440" y="5065560"/>
            <a:ext cx="660240" cy="246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102"/>
          <p:cNvSpPr/>
          <p:nvPr/>
        </p:nvSpPr>
        <p:spPr>
          <a:xfrm>
            <a:off x="6737400" y="5178600"/>
            <a:ext cx="636480" cy="323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103"/>
          <p:cNvSpPr/>
          <p:nvPr/>
        </p:nvSpPr>
        <p:spPr>
          <a:xfrm>
            <a:off x="6977160" y="5234040"/>
            <a:ext cx="380880" cy="243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104"/>
          <p:cNvSpPr/>
          <p:nvPr/>
        </p:nvSpPr>
        <p:spPr>
          <a:xfrm>
            <a:off x="6491160" y="5222880"/>
            <a:ext cx="58896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105"/>
          <p:cNvSpPr/>
          <p:nvPr/>
        </p:nvSpPr>
        <p:spPr>
          <a:xfrm>
            <a:off x="6299280" y="5313240"/>
            <a:ext cx="473040" cy="168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06"/>
          <p:cNvSpPr/>
          <p:nvPr/>
        </p:nvSpPr>
        <p:spPr>
          <a:xfrm>
            <a:off x="7040520" y="5334120"/>
            <a:ext cx="276120" cy="16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107"/>
          <p:cNvSpPr/>
          <p:nvPr/>
        </p:nvSpPr>
        <p:spPr>
          <a:xfrm>
            <a:off x="6630840" y="5315040"/>
            <a:ext cx="142920" cy="8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108"/>
          <p:cNvSpPr/>
          <p:nvPr/>
        </p:nvSpPr>
        <p:spPr>
          <a:xfrm>
            <a:off x="6575400" y="5283360"/>
            <a:ext cx="96840" cy="4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09"/>
          <p:cNvSpPr/>
          <p:nvPr/>
        </p:nvSpPr>
        <p:spPr>
          <a:xfrm>
            <a:off x="6551640" y="5322960"/>
            <a:ext cx="792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110"/>
          <p:cNvSpPr/>
          <p:nvPr/>
        </p:nvSpPr>
        <p:spPr>
          <a:xfrm>
            <a:off x="6786720" y="5326200"/>
            <a:ext cx="12852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111"/>
          <p:cNvSpPr/>
          <p:nvPr/>
        </p:nvSpPr>
        <p:spPr>
          <a:xfrm>
            <a:off x="6780240" y="5376960"/>
            <a:ext cx="52200" cy="41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112"/>
          <p:cNvSpPr/>
          <p:nvPr/>
        </p:nvSpPr>
        <p:spPr>
          <a:xfrm>
            <a:off x="7132680" y="3948120"/>
            <a:ext cx="285840" cy="544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113"/>
          <p:cNvSpPr/>
          <p:nvPr/>
        </p:nvSpPr>
        <p:spPr>
          <a:xfrm>
            <a:off x="7077240" y="3924360"/>
            <a:ext cx="158760" cy="6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114"/>
          <p:cNvSpPr/>
          <p:nvPr/>
        </p:nvSpPr>
        <p:spPr>
          <a:xfrm>
            <a:off x="7053120" y="4479840"/>
            <a:ext cx="135000" cy="34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115"/>
          <p:cNvSpPr/>
          <p:nvPr/>
        </p:nvSpPr>
        <p:spPr>
          <a:xfrm>
            <a:off x="7012080" y="4354560"/>
            <a:ext cx="93600" cy="36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116"/>
          <p:cNvSpPr/>
          <p:nvPr/>
        </p:nvSpPr>
        <p:spPr>
          <a:xfrm>
            <a:off x="6991200" y="4216320"/>
            <a:ext cx="109800" cy="41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117"/>
          <p:cNvSpPr/>
          <p:nvPr/>
        </p:nvSpPr>
        <p:spPr>
          <a:xfrm>
            <a:off x="7021440" y="4070520"/>
            <a:ext cx="100080" cy="3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118"/>
          <p:cNvSpPr/>
          <p:nvPr/>
        </p:nvSpPr>
        <p:spPr>
          <a:xfrm>
            <a:off x="6594480" y="4091040"/>
            <a:ext cx="61920" cy="4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119"/>
          <p:cNvSpPr/>
          <p:nvPr/>
        </p:nvSpPr>
        <p:spPr>
          <a:xfrm>
            <a:off x="6594480" y="4264200"/>
            <a:ext cx="81000" cy="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20"/>
          <p:cNvSpPr/>
          <p:nvPr/>
        </p:nvSpPr>
        <p:spPr>
          <a:xfrm>
            <a:off x="6620040" y="4362480"/>
            <a:ext cx="75960" cy="39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121"/>
          <p:cNvSpPr/>
          <p:nvPr/>
        </p:nvSpPr>
        <p:spPr>
          <a:xfrm>
            <a:off x="6620040" y="3930480"/>
            <a:ext cx="168120" cy="57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122"/>
          <p:cNvSpPr/>
          <p:nvPr/>
        </p:nvSpPr>
        <p:spPr>
          <a:xfrm>
            <a:off x="6948360" y="3438360"/>
            <a:ext cx="155880" cy="46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123"/>
          <p:cNvSpPr/>
          <p:nvPr/>
        </p:nvSpPr>
        <p:spPr>
          <a:xfrm>
            <a:off x="7120080" y="4481640"/>
            <a:ext cx="60120" cy="114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124"/>
          <p:cNvSpPr/>
          <p:nvPr/>
        </p:nvSpPr>
        <p:spPr>
          <a:xfrm>
            <a:off x="6791400" y="5184720"/>
            <a:ext cx="33804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125"/>
          <p:cNvSpPr/>
          <p:nvPr/>
        </p:nvSpPr>
        <p:spPr>
          <a:xfrm>
            <a:off x="7318440" y="5262480"/>
            <a:ext cx="268200" cy="8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126"/>
          <p:cNvSpPr/>
          <p:nvPr/>
        </p:nvSpPr>
        <p:spPr>
          <a:xfrm>
            <a:off x="6910560" y="5313240"/>
            <a:ext cx="691920" cy="34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127"/>
          <p:cNvSpPr/>
          <p:nvPr/>
        </p:nvSpPr>
        <p:spPr>
          <a:xfrm>
            <a:off x="6907320" y="5416560"/>
            <a:ext cx="703080" cy="34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1128"/>
          <p:cNvSpPr/>
          <p:nvPr/>
        </p:nvSpPr>
        <p:spPr>
          <a:xfrm>
            <a:off x="5867280" y="5173560"/>
            <a:ext cx="552600" cy="1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29"/>
          <p:cNvSpPr/>
          <p:nvPr/>
        </p:nvSpPr>
        <p:spPr>
          <a:xfrm>
            <a:off x="5942160" y="5340240"/>
            <a:ext cx="836640" cy="230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130"/>
          <p:cNvSpPr/>
          <p:nvPr/>
        </p:nvSpPr>
        <p:spPr>
          <a:xfrm>
            <a:off x="5838840" y="5292720"/>
            <a:ext cx="54000" cy="1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31"/>
          <p:cNvSpPr/>
          <p:nvPr/>
        </p:nvSpPr>
        <p:spPr>
          <a:xfrm>
            <a:off x="5927760" y="5445000"/>
            <a:ext cx="1009440" cy="308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132"/>
          <p:cNvSpPr/>
          <p:nvPr/>
        </p:nvSpPr>
        <p:spPr>
          <a:xfrm>
            <a:off x="6259680" y="5537160"/>
            <a:ext cx="114120" cy="357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1133"/>
          <p:cNvSpPr/>
          <p:nvPr/>
        </p:nvSpPr>
        <p:spPr>
          <a:xfrm>
            <a:off x="6381720" y="5869080"/>
            <a:ext cx="576360" cy="198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134"/>
          <p:cNvSpPr/>
          <p:nvPr/>
        </p:nvSpPr>
        <p:spPr>
          <a:xfrm>
            <a:off x="6929280" y="5710320"/>
            <a:ext cx="7308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135"/>
          <p:cNvSpPr/>
          <p:nvPr/>
        </p:nvSpPr>
        <p:spPr>
          <a:xfrm>
            <a:off x="7331040" y="5479920"/>
            <a:ext cx="163440" cy="32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1136"/>
          <p:cNvSpPr/>
          <p:nvPr/>
        </p:nvSpPr>
        <p:spPr>
          <a:xfrm>
            <a:off x="6942240" y="5838840"/>
            <a:ext cx="371520" cy="216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137"/>
          <p:cNvSpPr/>
          <p:nvPr/>
        </p:nvSpPr>
        <p:spPr>
          <a:xfrm>
            <a:off x="5954760" y="5711760"/>
            <a:ext cx="342720" cy="115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138"/>
          <p:cNvSpPr/>
          <p:nvPr/>
        </p:nvSpPr>
        <p:spPr>
          <a:xfrm>
            <a:off x="5915160" y="5810400"/>
            <a:ext cx="279360" cy="3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1139"/>
          <p:cNvSpPr/>
          <p:nvPr/>
        </p:nvSpPr>
        <p:spPr>
          <a:xfrm>
            <a:off x="6195960" y="5857920"/>
            <a:ext cx="13176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140"/>
          <p:cNvSpPr/>
          <p:nvPr/>
        </p:nvSpPr>
        <p:spPr>
          <a:xfrm>
            <a:off x="6008760" y="5857920"/>
            <a:ext cx="191880" cy="68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141"/>
          <p:cNvSpPr/>
          <p:nvPr/>
        </p:nvSpPr>
        <p:spPr>
          <a:xfrm>
            <a:off x="6208560" y="5927760"/>
            <a:ext cx="392400" cy="23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42"/>
          <p:cNvSpPr/>
          <p:nvPr/>
        </p:nvSpPr>
        <p:spPr>
          <a:xfrm>
            <a:off x="7012080" y="5710320"/>
            <a:ext cx="617400" cy="47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43"/>
          <p:cNvSpPr/>
          <p:nvPr/>
        </p:nvSpPr>
        <p:spPr>
          <a:xfrm>
            <a:off x="7101000" y="6168960"/>
            <a:ext cx="215640" cy="63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44"/>
          <p:cNvSpPr/>
          <p:nvPr/>
        </p:nvSpPr>
        <p:spPr>
          <a:xfrm>
            <a:off x="6972480" y="6162840"/>
            <a:ext cx="347400" cy="322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145"/>
          <p:cNvSpPr/>
          <p:nvPr/>
        </p:nvSpPr>
        <p:spPr>
          <a:xfrm>
            <a:off x="7400880" y="5591160"/>
            <a:ext cx="450720" cy="61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146"/>
          <p:cNvSpPr/>
          <p:nvPr/>
        </p:nvSpPr>
        <p:spPr>
          <a:xfrm>
            <a:off x="7292880" y="5770440"/>
            <a:ext cx="568440" cy="716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147"/>
          <p:cNvSpPr/>
          <p:nvPr/>
        </p:nvSpPr>
        <p:spPr>
          <a:xfrm>
            <a:off x="7270920" y="5846760"/>
            <a:ext cx="250560" cy="10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148"/>
          <p:cNvSpPr/>
          <p:nvPr/>
        </p:nvSpPr>
        <p:spPr>
          <a:xfrm>
            <a:off x="7178760" y="3736800"/>
            <a:ext cx="679320" cy="2011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1149"/>
          <p:cNvSpPr/>
          <p:nvPr/>
        </p:nvSpPr>
        <p:spPr>
          <a:xfrm>
            <a:off x="7385040" y="4213080"/>
            <a:ext cx="255600" cy="110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1150"/>
          <p:cNvSpPr/>
          <p:nvPr/>
        </p:nvSpPr>
        <p:spPr>
          <a:xfrm>
            <a:off x="7327800" y="4397400"/>
            <a:ext cx="139680" cy="847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1151"/>
          <p:cNvSpPr/>
          <p:nvPr/>
        </p:nvSpPr>
        <p:spPr>
          <a:xfrm>
            <a:off x="6853320" y="3146400"/>
            <a:ext cx="42840" cy="209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152"/>
          <p:cNvSpPr/>
          <p:nvPr/>
        </p:nvSpPr>
        <p:spPr>
          <a:xfrm>
            <a:off x="6956280" y="3149640"/>
            <a:ext cx="103320" cy="195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53"/>
          <p:cNvSpPr/>
          <p:nvPr/>
        </p:nvSpPr>
        <p:spPr>
          <a:xfrm>
            <a:off x="5181480" y="3467160"/>
            <a:ext cx="1987560" cy="297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154"/>
          <p:cNvSpPr/>
          <p:nvPr/>
        </p:nvSpPr>
        <p:spPr>
          <a:xfrm>
            <a:off x="7161120" y="3379680"/>
            <a:ext cx="1446480" cy="2982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59:07Z</dcterms:created>
  <dc:creator>Yana</dc:creator>
  <dc:description/>
  <dc:language>en-US</dc:language>
  <cp:lastModifiedBy>User</cp:lastModifiedBy>
  <dcterms:modified xsi:type="dcterms:W3CDTF">2017-03-21T15:51:02Z</dcterms:modified>
  <cp:revision>147</cp:revision>
  <dc:subject/>
  <dc:title>Презентация PowerPoint</dc:title>
</cp:coreProperties>
</file>