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50.png" ContentType="image/png"/>
  <Override PartName="/ppt/media/image13.png" ContentType="image/png"/>
  <Override PartName="/ppt/media/image4.png" ContentType="image/png"/>
  <Override PartName="/ppt/media/image27.png" ContentType="image/png"/>
  <Override PartName="/ppt/media/image47.wmf" ContentType="image/x-wmf"/>
  <Override PartName="/ppt/media/image31.jpeg" ContentType="image/jpeg"/>
  <Override PartName="/ppt/media/image41.png" ContentType="image/png"/>
  <Override PartName="/ppt/media/image40.png" ContentType="image/png"/>
  <Override PartName="/ppt/media/image42.jpeg" ContentType="image/jpeg"/>
  <Override PartName="/ppt/media/image51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38.jpeg" ContentType="image/jpeg"/>
  <Override PartName="/ppt/media/image9.png" ContentType="image/png"/>
  <Override PartName="/ppt/media/image52.jpeg" ContentType="image/jpe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37.jpeg" ContentType="image/jpeg"/>
  <Override PartName="/ppt/media/image30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C865-1248-4284-B568-60C7783CB3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2FDB-82B4-43B0-9B73-1DD1EDEEAE6A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BCC1-084C-411F-BECF-3380DDCE64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офорт оказывает комплексное воздействие, решая проблему функциональных нарушений на уровне патогенеза, регулируя работу ЖКТ на трех основных уровнях: центральной и вегетативной нервных систем, а также иммунной системы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ое действие обеспечивают компоненты Колофор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лиз-активные антитела к мозгоспецифическому белк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-10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пособствуют нормализации регуляции центральной и вегетативной нервной систем с устранением внутреннего напряжения, тревоги, нормализацией ряда висцеральных функций, в т.ч. деятельности толстого кишечник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лиз-активные антитела к гистамину оказывают спазмолитическое, противовоспалительное, противоотечное действие, способствуя нормализации мотор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з-активные антитела к ФНО-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казывают выраженное противовоспалительное действие с нормализацией провоспалительных и противовоспалительных цитокинов в стенке Ж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8815-8861-48A6-9CB7-0FE8EA2850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24EB-4FDC-4128-82C4-6102BBB9D5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8E66-807B-4498-9E8E-A7F12014C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EE0E-282A-42F4-A958-4E67076881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3CA6-31A7-418A-BF3F-C6A81B329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офорт оказывает комплексное воздействие, решая проблему функциональных нарушений на уровне патогенеза, регулируя работу ЖКТ на трех основных уровнях: центральной и вегетативной нервных систем, а также иммунной системы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ое действие обеспечивают компоненты Колофор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лиз-активные антитела к мозгоспецифическому белк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-10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пособствуют нормализации регуляции центральной и вегетативной нервной систем с устранением внутреннего напряжения, тревоги, нормализацией ряда висцеральных функций, в т.ч. деятельности толстого кишечник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лиз-активные антитела к гистамину оказывают спазмолитическое, противовоспалительное, противоотечное действие, способствуя нормализации мотор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з-активные антитела к ФНО-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казывают выраженное противовоспалительное действие с нормализацией провоспалительных и противовоспалительных цитокинов в стенке Ж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3438-6EAB-4F74-A79E-48ED4DF270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лофорт оказывает комплексное воздействие, решая проблему функциональных нарушений на уровне патогенеза, регулируя работу ЖКТ на трех основных уровнях: центральной и вегетативной нервных систем, а также иммунной системы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ое действие обеспечивают компоненты Колофор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лиз-активные антитела к мозгоспецифическому белк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-10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пособствуют нормализации регуляции центральной и вегетативной нервной систем с устранением внутреннего напряжения, тревоги, нормализацией ряда висцеральных функций, в т.ч. деятельности толстого кишечник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лиз-активные антитела к гистамину оказывают спазмолитическое, противовоспалительное, противоотечное действие, способствуя нормализации мотор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з-активные антитела к ФНО-</a:t>
            </a: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казывают выраженное противовоспалительное действие с нормализацией провоспалительных и противовоспалительных цитокинов в стенке Ж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D53A-886C-4D67-A3D0-2AAAF7AE67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2723-0EF3-40C8-A9CF-0F3581123E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764-F2C7-4464-BA75-DAE3AFA3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416-B47F-4438-97EF-77F72339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A8E-1202-4347-9DAA-609495FA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B1F-F9C2-414E-BEC4-009E63B0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B91-C262-49E5-BCB5-AE9C741E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ECF-F833-4613-866E-F32FBAC1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D64-D694-4E61-A31E-FE63D007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468-ACB9-4230-9B0D-4B94ED05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458-0147-4F63-B728-01FCB187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DD65-FE88-4C62-B122-68E9454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705-F0C2-4EBE-8C4C-E37B66B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121-6D48-4CAD-8936-651C20F2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DF3D-0BEE-448A-AE41-EC2EC4E94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lwomens.ru/uploads/posts/2011-01/1295377579_nedostatok_zheleza_v_organizme_cheloveka.jpg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14200" y="571680"/>
            <a:ext cx="8393400" cy="520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Сестринское дело в 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2643120" y="214308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 при анем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0"/>
          <p:cNvSpPr/>
          <p:nvPr/>
        </p:nvSpPr>
        <p:spPr>
          <a:xfrm>
            <a:off x="900000" y="2349360"/>
            <a:ext cx="33116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римест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Прямоугольник 12"/>
          <p:cNvGrpSpPr/>
          <p:nvPr/>
        </p:nvGrpSpPr>
        <p:grpSpPr>
          <a:xfrm>
            <a:off x="189000" y="1378080"/>
            <a:ext cx="8832600" cy="5333760"/>
            <a:chOff x="189000" y="1378080"/>
            <a:chExt cx="8832600" cy="5333760"/>
          </a:xfrm>
        </p:grpSpPr>
        <p:pic>
          <p:nvPicPr>
            <p:cNvPr id="149" name="Прямоугольник 12" descr=""/>
            <p:cNvPicPr/>
            <p:nvPr/>
          </p:nvPicPr>
          <p:blipFill>
            <a:blip r:embed="rId1"/>
            <a:stretch/>
          </p:blipFill>
          <p:spPr>
            <a:xfrm>
              <a:off x="189000" y="1378080"/>
              <a:ext cx="883260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0920" y="1413000"/>
              <a:ext cx="87138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 Narrow"/>
                </a:rPr>
                <a:t>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 Narrow"/>
                </a:rPr>
                <a:t>1. Беременность, роды, лактац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 Narrow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 Narrow"/>
                </a:rPr>
                <a:t>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 Narrow"/>
                </a:rPr>
                <a:t>2. Периоды быстрого роста и полово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 Narrow"/>
                </a:rPr>
                <a:t>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 Narrow"/>
                </a:rPr>
                <a:t>созревания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 Narrow"/>
                </a:rPr>
                <a:t>3. Опухоли и хронические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 Narrow"/>
                </a:rPr>
                <a:t>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 Narrow"/>
                </a:rPr>
                <a:t>инфек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14" descr=""/>
          <p:cNvPicPr/>
          <p:nvPr/>
        </p:nvPicPr>
        <p:blipFill>
          <a:blip r:embed="rId2"/>
          <a:stretch/>
        </p:blipFill>
        <p:spPr>
          <a:xfrm>
            <a:off x="6875640" y="3860640"/>
            <a:ext cx="1803240" cy="2597400"/>
          </a:xfrm>
          <a:prstGeom prst="rect">
            <a:avLst/>
          </a:prstGeom>
          <a:ln w="0">
            <a:noFill/>
          </a:ln>
        </p:spPr>
      </p:pic>
      <p:grpSp>
        <p:nvGrpSpPr>
          <p:cNvPr id="152" name="Прямоугольник 5"/>
          <p:cNvGrpSpPr/>
          <p:nvPr/>
        </p:nvGrpSpPr>
        <p:grpSpPr>
          <a:xfrm>
            <a:off x="189000" y="66600"/>
            <a:ext cx="8832600" cy="1397160"/>
            <a:chOff x="189000" y="66600"/>
            <a:chExt cx="8832600" cy="1397160"/>
          </a:xfrm>
        </p:grpSpPr>
        <p:pic>
          <p:nvPicPr>
            <p:cNvPr id="153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89000" y="66600"/>
              <a:ext cx="88326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50920" y="189000"/>
              <a:ext cx="871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 Narrow"/>
                </a:rPr>
                <a:t>III</a:t>
              </a:r>
              <a:r>
                <a:rPr b="1" lang="ru-RU" sz="3600" spc="-1" strike="noStrike">
                  <a:solidFill>
                    <a:srgbClr val="0000cc"/>
                  </a:solidFill>
                  <a:latin typeface="Arial Narrow"/>
                </a:rPr>
                <a:t>. Повышенный расхо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Arial Narrow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087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50920" y="500040"/>
            <a:ext cx="8642160" cy="61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 Narrow"/>
              </a:rPr>
              <a:t>IY</a:t>
            </a:r>
            <a:r>
              <a:rPr b="1" lang="ru-RU" sz="3600" spc="-1" strike="noStrike">
                <a:solidFill>
                  <a:srgbClr val="0000cc"/>
                </a:solidFill>
                <a:latin typeface="Arial Narrow"/>
              </a:rPr>
              <a:t>. </a:t>
            </a:r>
            <a:r>
              <a:rPr b="1" lang="ru-RU" sz="3600" spc="-1" strike="noStrike" u="sng">
                <a:solidFill>
                  <a:srgbClr val="0000cc"/>
                </a:solidFill>
                <a:uFillTx/>
                <a:latin typeface="Arial Narrow"/>
              </a:rPr>
              <a:t>Алиментарный дефиц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1. Вегетариан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2. Частые по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3. Недостаточное питани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лительное  голодание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 Narrow"/>
              </a:rPr>
              <a:t>Y</a:t>
            </a:r>
            <a:r>
              <a:rPr b="1" lang="ru-RU" sz="3600" spc="-1" strike="noStrike">
                <a:solidFill>
                  <a:srgbClr val="0000cc"/>
                </a:solidFill>
                <a:latin typeface="Arial Narrow"/>
              </a:rPr>
              <a:t>. </a:t>
            </a:r>
            <a:r>
              <a:rPr b="1" lang="ru-RU" sz="3600" spc="-1" strike="noStrike" u="sng">
                <a:solidFill>
                  <a:srgbClr val="0000cc"/>
                </a:solidFill>
                <a:uFillTx/>
                <a:latin typeface="Arial Narrow"/>
              </a:rPr>
              <a:t>Врожденный дефиц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79280" y="189000"/>
            <a:ext cx="8713800" cy="35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Клиническая карт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1. 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Жалобы</a:t>
            </a: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щая 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овышенная утомля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«мушки» перед глазами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4032360" cy="292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96108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087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260280"/>
            <a:ext cx="8713800" cy="643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ердцеби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ноющие боли в области сер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дышка при физической нагруз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головная боль, головокру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возможны обморо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онливость дн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Все это проявления циркуляторн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гипоксического синдр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9280" y="189000"/>
            <a:ext cx="8785440" cy="643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2. Кож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бледная, сухая, шелушащая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ногда появляются трещины на кончи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альцев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3. Слизистые оболоч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бле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клеры иссиня-белого ц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ангулярный стома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глосс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зменения СО половых органов (зуд вуль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6286680" y="1844640"/>
            <a:ext cx="253332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5072040" y="571680"/>
            <a:ext cx="3429000" cy="523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285840" y="642960"/>
            <a:ext cx="4076640" cy="323856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4"/>
          <p:cNvSpPr/>
          <p:nvPr/>
        </p:nvSpPr>
        <p:spPr>
          <a:xfrm>
            <a:off x="5076720" y="6021360"/>
            <a:ext cx="338292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Глосс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324000" y="4149720"/>
            <a:ext cx="4032000" cy="4597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нгулярный сто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79280" y="260280"/>
            <a:ext cx="8785440" cy="61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4. Дериваты кож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продольная или попереч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исчерченность ног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их расслаивание и лом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у части больных ногти вогнут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ложкообраз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волосы сухие, тускл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волосы рано седе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и усиленно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выпад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5867280" y="4076640"/>
            <a:ext cx="2952720" cy="23544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143080" y="285840"/>
            <a:ext cx="431496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Narrow"/>
              </a:rPr>
              <a:t>Ломкость ног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Koilonychia"/>
          <p:cNvPicPr/>
          <p:nvPr/>
        </p:nvPicPr>
        <p:blipFill>
          <a:blip r:embed="rId1"/>
          <a:srcRect l="0" t="0" r="0" b="8361"/>
          <a:stretch/>
        </p:blipFill>
        <p:spPr>
          <a:xfrm>
            <a:off x="357120" y="1785960"/>
            <a:ext cx="4415040" cy="3732120"/>
          </a:xfrm>
          <a:prstGeom prst="rect">
            <a:avLst/>
          </a:prstGeom>
          <a:ln w="0">
            <a:noFill/>
          </a:ln>
        </p:spPr>
      </p:pic>
      <p:pic>
        <p:nvPicPr>
          <p:cNvPr id="178" name="Content Placeholder 3" descr="Screen shot 2011-12-06 at 8.52.26 PM.png"/>
          <p:cNvPicPr/>
          <p:nvPr/>
        </p:nvPicPr>
        <p:blipFill>
          <a:blip r:embed="rId2"/>
          <a:stretch/>
        </p:blipFill>
        <p:spPr>
          <a:xfrm>
            <a:off x="4830840" y="2143080"/>
            <a:ext cx="416880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35280" y="260280"/>
            <a:ext cx="55087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"/>
          <p:cNvSpPr/>
          <p:nvPr/>
        </p:nvSpPr>
        <p:spPr>
          <a:xfrm>
            <a:off x="214200" y="333360"/>
            <a:ext cx="8678880" cy="61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5</a:t>
            </a: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. Мышечная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Нарушение синтеза миоглобина приводит к развитию миаст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Вследствие ослабления сфинктеров появляются императивные позывы на мочеиспускание, невозможность удерживать мочу при смехе, кашле,  ночное недержание мочи, энуре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179280" y="117360"/>
            <a:ext cx="875052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6</a:t>
            </a: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. Сердце: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идеропеническая миокардиодистрофия, склон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к тахикардии, гипото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692360" cy="1629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179280" y="2492280"/>
            <a:ext cx="8713800" cy="1739880"/>
          </a:xfrm>
          <a:prstGeom prst="rect">
            <a:avLst/>
          </a:prstGeom>
          <a:gradFill rotWithShape="0">
            <a:gsLst>
              <a:gs pos="0">
                <a:srgbClr val="004d00"/>
              </a:gs>
              <a:gs pos="100000">
                <a:srgbClr val="008a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ЖДА и ИБ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250920" y="4221000"/>
            <a:ext cx="8642160" cy="253116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Широко известно, что  при ЖДА имеет место гемическая или тканевая гипоксия, которая </a:t>
            </a:r>
            <a:r>
              <a:rPr b="1" lang="ru-RU" sz="3200" spc="-1" strike="noStrike">
                <a:solidFill>
                  <a:srgbClr val="cc0000"/>
                </a:solidFill>
                <a:latin typeface="Arial Narrow"/>
              </a:rPr>
              <a:t>может инициировать клинические проявления ИБС, оказывать отягчающее влияние на характер течения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6286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ЖДА –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клинико-гематологический синдром, характеризующийся снижением содержания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e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в сыворотке крови, костном мозге, органах-депо и вследствие этого нарушением синтеза гемоглобин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а также белков, содержащих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e </a:t>
            </a: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(миоглобин, железосодержащие тканевые ферменты),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проявляющийся признаками анемии и сидероп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Железодефицитная ане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35280" y="260280"/>
            <a:ext cx="55087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214200" y="333360"/>
            <a:ext cx="8678880" cy="61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7. Изменения со стороны нервной системы: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повышенная утомляемость, шум в ушах, головокружение, головные боли, снижение интеллектуальных возмож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При дефиците </a:t>
            </a:r>
            <a:r>
              <a:rPr b="1" lang="en-US" sz="3600" spc="-1" strike="noStrike">
                <a:solidFill>
                  <a:srgbClr val="cc0000"/>
                </a:solidFill>
                <a:latin typeface="Arial Narrow"/>
              </a:rPr>
              <a:t>Fe</a:t>
            </a: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 нарушается миелинизация нервных ство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Некоторые авторы связывают с дефицитом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e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нарушения мышления, снижение когнитивных функций и памяти, развитие болезни Паркинсона и Альцгейм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35280" y="260280"/>
            <a:ext cx="55087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250920" y="333360"/>
            <a:ext cx="8678880" cy="61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8. Печень: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на фоне гипоксии возникает гипоальбуминемия, гипопротромбинемия, гипогликем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традает детоксикационная функ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9. Изменения со стороны полов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нарушение менструальног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35280" y="260280"/>
            <a:ext cx="55087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250920" y="333360"/>
            <a:ext cx="8678880" cy="606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10. Нарушение гормональной функции коры надпочечников –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ефицит синтеза андрогенов и глюкокортикостероидов с развитием субклинического гипокортиц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11. Щитовидная железа –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ефицит синте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йодтиронинов (Т3, Т4) с развитием субклинического гипотиреоза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http://intranet.tdmu.edu.ua/data/kafedra/internal/vnutrmed2/classes_stud/ru/med/lik/ptn/%D0%B2%D0%BD%D1%83%D1%82%D1%80%D0%B5%D0%BD%D0%BD%D1%8F%D1%8F%20%D0%BC%D0%B5%D0%B4%D0%B8%D1%86%D0%B8%D0%BD%D0%B0/6%20%D0%BA%D1%83%D1%80%D1%81/19.%20%D0%92%D0%B5%D0%B4%D0%B5%D0%BD%D0%B8%D0%B5%20%D0%B1%D0%BE%D0%BB%D1%8C%D0%BD%D1%8B%D1%85%20%D1%81%20%D1%81%D0%B8%D0%BD%D0%B4%D1%80%D0%BE%D0%BC%D0%BE%D0%BC%20%D0%B3%D0%B8%D0%BF%D0%BE%D1%82%D0%B8%D1%80%D0%B5%D0%BE%D0%B7%D0%B0.files/image005.jpg"/>
          <p:cNvPicPr/>
          <p:nvPr/>
        </p:nvPicPr>
        <p:blipFill>
          <a:blip r:embed="rId2"/>
          <a:stretch/>
        </p:blipFill>
        <p:spPr>
          <a:xfrm>
            <a:off x="4429080" y="4221000"/>
            <a:ext cx="4714920" cy="2381400"/>
          </a:xfrm>
          <a:prstGeom prst="rect">
            <a:avLst/>
          </a:prstGeom>
          <a:ln w="0">
            <a:noFill/>
          </a:ln>
        </p:spPr>
      </p:pic>
      <p:sp>
        <p:nvSpPr>
          <p:cNvPr id="197" name="Oval 58"/>
          <p:cNvSpPr/>
          <p:nvPr/>
        </p:nvSpPr>
        <p:spPr>
          <a:xfrm>
            <a:off x="5076720" y="4797360"/>
            <a:ext cx="3024360" cy="649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8"/>
          <p:cNvSpPr/>
          <p:nvPr/>
        </p:nvSpPr>
        <p:spPr>
          <a:xfrm>
            <a:off x="5364000" y="6021360"/>
            <a:ext cx="3024360" cy="649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http://schitovidka.su/wp-content/uploads/2016/12/na-foto--odna-i-ta-zhe-patsienta-sleva--s-kliniche-768x548.jpg"/>
          <p:cNvPicPr/>
          <p:nvPr/>
        </p:nvPicPr>
        <p:blipFill>
          <a:blip r:embed="rId3"/>
          <a:stretch/>
        </p:blipFill>
        <p:spPr>
          <a:xfrm>
            <a:off x="179280" y="4221000"/>
            <a:ext cx="417672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285840" y="285840"/>
            <a:ext cx="8640720" cy="606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12.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 Narrow"/>
              </a:rPr>
              <a:t>Извращение вкуса</a:t>
            </a: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- желание есть мел, уголь, сух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макароны, сырое тесто, сыр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фарш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13. Необычные пристрас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желание нюхать ацетон, крас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бензин, керосин, запах мокр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пепла от сигареты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50920" y="189000"/>
            <a:ext cx="8713800" cy="49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14. Изменения со стороны ЖК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нижение аппет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клонность к потреблению кислой, соле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строй пи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исфагия (затруднение при глот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ухой и плотной пищ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еопределенные болевые 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ли  тяжесть в эпигастр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трыжка, подташн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08720" cy="5661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11970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3"/>
          <p:cNvSpPr/>
          <p:nvPr/>
        </p:nvSpPr>
        <p:spPr>
          <a:xfrm>
            <a:off x="1835280" y="1268280"/>
            <a:ext cx="9144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1559160" y="33336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Диагно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8"/>
          <p:cNvSpPr/>
          <p:nvPr/>
        </p:nvSpPr>
        <p:spPr>
          <a:xfrm>
            <a:off x="0" y="4508640"/>
            <a:ext cx="262728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8"/>
          <p:cNvSpPr/>
          <p:nvPr/>
        </p:nvSpPr>
        <p:spPr>
          <a:xfrm>
            <a:off x="250920" y="3068640"/>
            <a:ext cx="223344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58"/>
          <p:cNvSpPr/>
          <p:nvPr/>
        </p:nvSpPr>
        <p:spPr>
          <a:xfrm>
            <a:off x="3780000" y="2276640"/>
            <a:ext cx="172872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8"/>
          <p:cNvSpPr/>
          <p:nvPr/>
        </p:nvSpPr>
        <p:spPr>
          <a:xfrm>
            <a:off x="6372360" y="450864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8"/>
          <p:cNvSpPr/>
          <p:nvPr/>
        </p:nvSpPr>
        <p:spPr>
          <a:xfrm>
            <a:off x="6443640" y="2997360"/>
            <a:ext cx="1728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8"/>
          <p:cNvSpPr/>
          <p:nvPr/>
        </p:nvSpPr>
        <p:spPr>
          <a:xfrm>
            <a:off x="179280" y="3573360"/>
            <a:ext cx="223380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8"/>
          <p:cNvSpPr/>
          <p:nvPr/>
        </p:nvSpPr>
        <p:spPr>
          <a:xfrm>
            <a:off x="6372360" y="3573360"/>
            <a:ext cx="1728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92160" y="29052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155520" y="290520"/>
            <a:ext cx="97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F:\Диетотер.ЖДА\pitanie-pri-zhelezodeficitnoj-anemii-5.jpg"/>
          <p:cNvPicPr/>
          <p:nvPr/>
        </p:nvPicPr>
        <p:blipFill>
          <a:blip r:embed="rId1"/>
          <a:stretch/>
        </p:blipFill>
        <p:spPr>
          <a:xfrm>
            <a:off x="1714680" y="285840"/>
            <a:ext cx="5572080" cy="41432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1"/>
          <p:cNvSpPr/>
          <p:nvPr/>
        </p:nvSpPr>
        <p:spPr>
          <a:xfrm>
            <a:off x="357120" y="4572000"/>
            <a:ext cx="8501040" cy="155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Мед содержит в себе от 40 до 60%  фруктозы, которая в свою очередь способна  улучшать всасывание жел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92160" y="290520"/>
            <a:ext cx="9360" cy="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55520" y="290520"/>
            <a:ext cx="9720" cy="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5"/>
          <p:cNvSpPr/>
          <p:nvPr/>
        </p:nvSpPr>
        <p:spPr>
          <a:xfrm>
            <a:off x="108000" y="117360"/>
            <a:ext cx="8821800" cy="673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 Narrow"/>
              </a:rPr>
              <a:t>Именно мед  богат микроэлементами, а так же важнейшими биологически активными веще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екомендуют  больным ЖДА использовать в рационе темные сорта меда, которые содержат в себе практически в 4 раза большее количество желе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Arial Narrow"/>
              </a:rPr>
              <a:t>Темный мед содержит в 14 раз больше марганца и в 2 раза больше меди, нежели светл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60847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вукумщ"/>
          <p:cNvPicPr/>
          <p:nvPr/>
        </p:nvPicPr>
        <p:blipFill>
          <a:blip r:embed="rId1"/>
          <a:stretch/>
        </p:blipFill>
        <p:spPr>
          <a:xfrm>
            <a:off x="-93600" y="569880"/>
            <a:ext cx="3152880" cy="6183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987640" y="1214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71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Принципы пероральной ферр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50920" y="981000"/>
            <a:ext cx="8713800" cy="564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8276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 Narrow"/>
              </a:rPr>
              <a:t>назначение ПЖ с достаточным содержанием в них </a:t>
            </a:r>
            <a:r>
              <a:rPr b="1" lang="en-US" sz="3200" spc="-1" strike="noStrike">
                <a:solidFill>
                  <a:srgbClr val="cc0000"/>
                </a:solidFill>
                <a:latin typeface="Arial Narrow"/>
              </a:rPr>
              <a:t>Fe </a:t>
            </a:r>
            <a:r>
              <a:rPr b="1" lang="ru-RU" sz="3200" spc="-1" strike="noStrike">
                <a:solidFill>
                  <a:srgbClr val="cc0000"/>
                </a:solidFill>
                <a:latin typeface="Arial Narrow"/>
              </a:rPr>
              <a:t>(100-200 м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827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рименение ПЖ, содержащих вещества, усиливающие всасывание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e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827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ежелательно одновременное употребление пищевых и лекарственных веществ, уменьшающих всасывание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8276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 Narrow"/>
              </a:rPr>
              <a:t>нецелесообразно назначение ПЖ внутрь при наличии признаков нарушения кишечного всасыва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Группа 18"/>
          <p:cNvGrpSpPr/>
          <p:nvPr/>
        </p:nvGrpSpPr>
        <p:grpSpPr>
          <a:xfrm>
            <a:off x="468360" y="1125360"/>
            <a:ext cx="4978440" cy="3997440"/>
            <a:chOff x="468360" y="1125360"/>
            <a:chExt cx="4978440" cy="3997440"/>
          </a:xfrm>
        </p:grpSpPr>
        <p:grpSp>
          <p:nvGrpSpPr>
            <p:cNvPr id="53" name="Выноска со стрелкой вправо 6"/>
            <p:cNvGrpSpPr/>
            <p:nvPr/>
          </p:nvGrpSpPr>
          <p:grpSpPr>
            <a:xfrm>
              <a:off x="468360" y="3609720"/>
              <a:ext cx="4978440" cy="1513080"/>
              <a:chOff x="468360" y="3609720"/>
              <a:chExt cx="4978440" cy="1513080"/>
            </a:xfrm>
          </p:grpSpPr>
          <p:pic>
            <p:nvPicPr>
              <p:cNvPr id="54" name="Выноска со стрелкой вправо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360" y="3609720"/>
                <a:ext cx="4978440" cy="151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621360" y="3748680"/>
                <a:ext cx="3033000" cy="12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Выноска со стрелкой вправо 10"/>
            <p:cNvGrpSpPr/>
            <p:nvPr/>
          </p:nvGrpSpPr>
          <p:grpSpPr>
            <a:xfrm>
              <a:off x="468360" y="1125360"/>
              <a:ext cx="4978440" cy="1468080"/>
              <a:chOff x="468360" y="1125360"/>
              <a:chExt cx="4978440" cy="1468080"/>
            </a:xfrm>
          </p:grpSpPr>
          <p:pic>
            <p:nvPicPr>
              <p:cNvPr id="57" name="Выноска со стрелкой вправо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125360"/>
                <a:ext cx="4978440" cy="14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621360" y="1264320"/>
                <a:ext cx="303300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Выноска со стрелкой вправо 11"/>
            <p:cNvGrpSpPr/>
            <p:nvPr/>
          </p:nvGrpSpPr>
          <p:grpSpPr>
            <a:xfrm>
              <a:off x="468360" y="2390040"/>
              <a:ext cx="4978440" cy="1416960"/>
              <a:chOff x="468360" y="2390040"/>
              <a:chExt cx="4978440" cy="1416960"/>
            </a:xfrm>
          </p:grpSpPr>
          <p:pic>
            <p:nvPicPr>
              <p:cNvPr id="60" name="Выноска со стрелкой вправо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2390040"/>
                <a:ext cx="4978440" cy="141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621360" y="2530800"/>
                <a:ext cx="3033000" cy="11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Прямоугольник 8"/>
          <p:cNvGrpSpPr/>
          <p:nvPr/>
        </p:nvGrpSpPr>
        <p:grpSpPr>
          <a:xfrm>
            <a:off x="5559480" y="2438280"/>
            <a:ext cx="3492360" cy="1311480"/>
            <a:chOff x="5559480" y="2438280"/>
            <a:chExt cx="3492360" cy="1311480"/>
          </a:xfrm>
        </p:grpSpPr>
        <p:pic>
          <p:nvPicPr>
            <p:cNvPr id="63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559480" y="2438280"/>
              <a:ext cx="349236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651640" y="2492280"/>
              <a:ext cx="32637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ff"/>
                  </a:solidFill>
                  <a:latin typeface="Arial Narrow"/>
                </a:rPr>
                <a:t>не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 Narrow"/>
                </a:rPr>
                <a:t>&gt; </a:t>
              </a:r>
              <a:r>
                <a:rPr b="1" lang="ru-RU" sz="3200" spc="-1" strike="noStrike">
                  <a:solidFill>
                    <a:srgbClr val="0000ff"/>
                  </a:solidFill>
                  <a:latin typeface="Arial Narrow"/>
                </a:rPr>
                <a:t>1,5-2 мг Fe2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Прямоугольник 7"/>
          <p:cNvGrpSpPr/>
          <p:nvPr/>
        </p:nvGrpSpPr>
        <p:grpSpPr>
          <a:xfrm>
            <a:off x="5595840" y="1000080"/>
            <a:ext cx="3425760" cy="1382760"/>
            <a:chOff x="5595840" y="1000080"/>
            <a:chExt cx="3425760" cy="1382760"/>
          </a:xfrm>
        </p:grpSpPr>
        <p:pic>
          <p:nvPicPr>
            <p:cNvPr id="66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5595840" y="1000080"/>
              <a:ext cx="342576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651640" y="1052640"/>
              <a:ext cx="32637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ff"/>
                  </a:solidFill>
                  <a:latin typeface="Arial Narrow"/>
                </a:rPr>
                <a:t>10-20 мг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 Narrow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Прямоугольник 9"/>
          <p:cNvGrpSpPr/>
          <p:nvPr/>
        </p:nvGrpSpPr>
        <p:grpSpPr>
          <a:xfrm>
            <a:off x="5595840" y="3736800"/>
            <a:ext cx="3425760" cy="1414800"/>
            <a:chOff x="5595840" y="3736800"/>
            <a:chExt cx="3425760" cy="1414800"/>
          </a:xfrm>
        </p:grpSpPr>
        <p:pic>
          <p:nvPicPr>
            <p:cNvPr id="69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5595840" y="3736800"/>
              <a:ext cx="34257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651640" y="3789360"/>
              <a:ext cx="326844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ff"/>
                  </a:solidFill>
                  <a:latin typeface="Arial Narrow"/>
                </a:rPr>
                <a:t>до 2,5-3 м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Прямоугольник 14"/>
          <p:cNvSpPr/>
          <p:nvPr/>
        </p:nvSpPr>
        <p:spPr>
          <a:xfrm>
            <a:off x="380880" y="115920"/>
            <a:ext cx="8534520" cy="642600"/>
          </a:xfrm>
          <a:prstGeom prst="rect">
            <a:avLst/>
          </a:prstGeom>
          <a:solidFill>
            <a:srgbClr val="ffcccc"/>
          </a:solidFill>
          <a:ln w="6480">
            <a:solidFill>
              <a:srgbClr val="ffffff"/>
            </a:solidFill>
            <a:miter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Arial Narrow"/>
              </a:rPr>
              <a:t>Физ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468360" y="1125360"/>
            <a:ext cx="316692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3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жедневно в орган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человека поступает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ищей</a:t>
            </a:r>
            <a:r>
              <a:rPr b="1" lang="ru-RU" sz="2000" spc="-1" strike="noStrike">
                <a:solidFill>
                  <a:srgbClr val="0000cc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5"/>
          <p:cNvSpPr/>
          <p:nvPr/>
        </p:nvSpPr>
        <p:spPr>
          <a:xfrm>
            <a:off x="468360" y="2565360"/>
            <a:ext cx="316692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3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ДПК и проксима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тделах тощей киш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сасывается  </a:t>
            </a:r>
            <a:r>
              <a:rPr b="1" lang="ru-RU" sz="2000" spc="-1" strike="noStrike">
                <a:solidFill>
                  <a:srgbClr val="0000cc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6"/>
          <p:cNvSpPr/>
          <p:nvPr/>
        </p:nvSpPr>
        <p:spPr>
          <a:xfrm>
            <a:off x="468360" y="3933720"/>
            <a:ext cx="3166920" cy="15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3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 латентном дефиц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сасывание 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вели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Выноска со стрелкой вправо 18"/>
          <p:cNvGrpSpPr/>
          <p:nvPr/>
        </p:nvGrpSpPr>
        <p:grpSpPr>
          <a:xfrm>
            <a:off x="281160" y="5151600"/>
            <a:ext cx="5327640" cy="1584000"/>
            <a:chOff x="281160" y="5151600"/>
            <a:chExt cx="5327640" cy="1584000"/>
          </a:xfrm>
        </p:grpSpPr>
        <p:pic>
          <p:nvPicPr>
            <p:cNvPr id="76" name="Выноска со стрелкой вправо 18" descr=""/>
            <p:cNvPicPr/>
            <p:nvPr/>
          </p:nvPicPr>
          <p:blipFill>
            <a:blip r:embed="rId7"/>
            <a:stretch/>
          </p:blipFill>
          <p:spPr>
            <a:xfrm>
              <a:off x="281160" y="5151600"/>
              <a:ext cx="5327640" cy="15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68360" y="5300640"/>
              <a:ext cx="322740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При развитии ЖДА интенсивность всасывания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e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 возраста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Прямоугольник 20"/>
          <p:cNvGrpSpPr/>
          <p:nvPr/>
        </p:nvGrpSpPr>
        <p:grpSpPr>
          <a:xfrm>
            <a:off x="5595840" y="5175360"/>
            <a:ext cx="3425760" cy="1414440"/>
            <a:chOff x="5595840" y="5175360"/>
            <a:chExt cx="3425760" cy="1414440"/>
          </a:xfrm>
        </p:grpSpPr>
        <p:pic>
          <p:nvPicPr>
            <p:cNvPr id="79" name="Прямоугольник 20" descr=""/>
            <p:cNvPicPr/>
            <p:nvPr/>
          </p:nvPicPr>
          <p:blipFill>
            <a:blip r:embed="rId8"/>
            <a:stretch/>
          </p:blipFill>
          <p:spPr>
            <a:xfrm>
              <a:off x="5595840" y="5175360"/>
              <a:ext cx="34257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651640" y="5229360"/>
              <a:ext cx="326844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ff"/>
                  </a:solidFill>
                  <a:latin typeface="Arial Narrow"/>
                </a:rPr>
                <a:t>до 4-5 м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Препараты сульфата железа </a:t>
            </a:r>
            <a:r>
              <a:rPr b="1" lang="en-US" sz="3600" spc="-1" strike="noStrike">
                <a:solidFill>
                  <a:srgbClr val="cc0000"/>
                </a:solidFill>
                <a:latin typeface="Arial Narrow"/>
              </a:rPr>
              <a:t>(Fe2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974880"/>
          <a:ext cx="9144000" cy="5883120"/>
        </p:xfrm>
        <a:graphic>
          <a:graphicData uri="http://schemas.openxmlformats.org/drawingml/2006/table">
            <a:tbl>
              <a:tblPr/>
              <a:tblGrid>
                <a:gridCol w="1668600"/>
                <a:gridCol w="3436920"/>
                <a:gridCol w="1371600"/>
                <a:gridCol w="1143000"/>
                <a:gridCol w="1143000"/>
                <a:gridCol w="380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олнитель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езо, м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Сорбифер Дурул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аскорбинов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г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еропле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аскорбинов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гал (Венгр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Гемофер пролонгат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аж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ардифер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корбинов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мукопроте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rre Fabre-Rabopha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ранц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Гино-Тардифер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фолиев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Актиферр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сер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dwig Merck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Актиферрин композит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серин + фолиев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 мг.м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Ферро-Фольгам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фолиев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цианокобал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ваг Фарма Гмб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су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Фенюль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аскорбинов., никотинамид, рибофлавин, пиридоксин, кальция пантотен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бакс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е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p:transition spd="med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213840"/>
            <a:ext cx="8785440" cy="6643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Arial Narrow"/>
                <a:ea typeface="Arial"/>
              </a:rPr>
              <a:t>Профилактика ЖД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  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 Narrow"/>
                <a:ea typeface="Arial"/>
              </a:rPr>
              <a:t>Группы риск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женщины с длительными (более 5 дней)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   обильными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mensis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. женщины в период беременности и лактац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3.  дети в периоде полового созревания пр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    быстром росте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4. дети до года, если у матери во время беремен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   была ЖДА, а также недоношенные дети и близнец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5. лица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арших возрастных групп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Arial"/>
              </a:rPr>
              <a:t>6. доноры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  <a:ea typeface="Arial"/>
              </a:rPr>
              <a:t>    Проводят 1-2 курса ферротерапии (Ферретаб комп.)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 Narrow"/>
                <a:ea typeface="Arial"/>
              </a:rPr>
              <a:t>в год по 30 дней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 Narrow"/>
                <a:ea typeface="Arial"/>
              </a:rPr>
              <a:t>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6286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Arial Narrow"/>
              </a:rPr>
              <a:t>В12-дефицитная анемия –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анемия,  при которой в периферической крови определяется эритроциты больших размеров (мегабласты) - мегалобластная анем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В12-дефицитная  анем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злокачественная, пернициозная, мегалобластная, анемия Аддисона  Бирмера)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6215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тамин В12-внешний антианемический факт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нутренний фактор - это секрет, который выделяется париетальными клетками слизистой желудка. Соединение внешнего и внутреннего фактора происходит в тонком кишечнике. Это соединение поступает в кровь и через печень в костный мозг, где участвует в синтезе гемоглоб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Факторы В12-дефицитной  анем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6215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сы В12 в организме взрослого человека -5мг,а суточная потеря 5мкг,поэтому полное истощение запасов В12, при отсутствии  его поступления в организм, наступает через 1000 суток (примерно 3года),поэтому она встречается ред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Внешний фактор В12-дефицитной  анем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6215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ушение питания (вегетарианство,хронический алкоголизм, извращенный рацион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Нарушение всасывания В12 (заболевания желудка, кишечника, наличие в кишечнике паразитов(особенно широкого лентеца) ,нарушение функции пече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Повышенная потребность в витамине В12(при гипертиреозе и в молодом возрас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Причины В12-дефицитной  анем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-360" y="785520"/>
            <a:ext cx="7000920" cy="6072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Гастроэнтерологический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пепсия ,боли и жжение в языке ,повышение чувствительности языка к острому, горячему, кислой пище, язык становится красным «лакированным».Эти симптомы связаны  с атрофией слизистой оболочки всего Ж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ется афтозный стоматит,трещины в углах рта, глоссит, желудочная секреция снижена ,увеличение печени и селез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Клиника В12-дефицитной  анем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5857920" y="2892600"/>
            <a:ext cx="3286080" cy="2465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360" y="785520"/>
            <a:ext cx="7000920" cy="6072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врологический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болевой чувствительности по типу носков и перчаток, нарушение глубокой чувствительности (пациенты не чувствуют пол и тапочки),чувство онемения ,снижение сухожильных рефлексов, полиневриты, атрофия мышц нижних конечностей, нарушение функции тазовых органов. В тяжелых случаях поражение ЦНС (могут возникать галлюцинации, бред, психические расстройст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Клиника В12-дефицитной  анем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360" y="642600"/>
            <a:ext cx="5429160" cy="6072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матологический синд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хромная анемия ,т.е. цветовой показатель выше 1,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эритроцитов,но они больших размеров (макроцитоз), снижение гемоглобина, лейкопения,тромбоцитопения, ускоренное СОЭ. При этой анемии  в эритроцитах появляются тельца Жолли и кольца Ке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Клиника В12-дефицитной  анем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5408640" y="1571760"/>
            <a:ext cx="3735360" cy="4109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642600"/>
            <a:ext cx="4500720" cy="1214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Рациональное питание (употребление говядины, телятины в отварном виде,сыра, молока, почек ,печени, яй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Лечение В12-дефицитной  анем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ÐÐ°ÑÑÐ¸Ð½ÐºÐ¸ Ð¿Ð¾ Ð·Ð°Ð¿ÑÐ¾ÑÑ ÐÐÐ§ÐÐÐÐ   Ð12-ÐÐÐ¤ÐÐ¦ÐÐ¢ÐÐÐ ÐÐÐÐÐÐ"/>
          <p:cNvPicPr/>
          <p:nvPr/>
        </p:nvPicPr>
        <p:blipFill>
          <a:blip r:embed="rId2"/>
          <a:stretch/>
        </p:blipFill>
        <p:spPr>
          <a:xfrm>
            <a:off x="4203720" y="714240"/>
            <a:ext cx="4940280" cy="32148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0" y="3486240"/>
            <a:ext cx="607212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Заместительная терапия препаратами В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цианокобаламин, оксикобаламин) 500мкг ежедневно 1-2 раза в день,10 дней. При тяжелом течении или при осложнениях можно начинать с 1000мкг ,через 10 дней доза уменьшается до 300мкг в сутки в течение 3 месяцев .(Стандартная схема для всех).Затем в течение 6 месяцев назначают 1 инъекцию в 2 недели. Последующие дозы назначают индивидуально. Лечение пожизне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ÐÐ°ÑÑÐ¸Ð½ÐºÐ¸ Ð¿Ð¾ Ð·Ð°Ð¿ÑÐ¾ÑÑ ÐÐÐ§ÐÐÐÐ   Ð12-ÐÐÐ¤ÐÐ¦ÐÐ¢ÐÐÐ ÐÐÐÐÐÐ"/>
          <p:cNvPicPr/>
          <p:nvPr/>
        </p:nvPicPr>
        <p:blipFill>
          <a:blip r:embed="rId3"/>
          <a:stretch/>
        </p:blipFill>
        <p:spPr>
          <a:xfrm>
            <a:off x="6429240" y="4071960"/>
            <a:ext cx="2562480" cy="256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Rectangle 2"/>
          <p:cNvGrpSpPr/>
          <p:nvPr/>
        </p:nvGrpSpPr>
        <p:grpSpPr>
          <a:xfrm>
            <a:off x="189000" y="225360"/>
            <a:ext cx="8759880" cy="1042920"/>
            <a:chOff x="189000" y="225360"/>
            <a:chExt cx="8759880" cy="1042920"/>
          </a:xfrm>
        </p:grpSpPr>
        <p:pic>
          <p:nvPicPr>
            <p:cNvPr id="82" name="Rectangle 2" descr=""/>
            <p:cNvPicPr/>
            <p:nvPr/>
          </p:nvPicPr>
          <p:blipFill>
            <a:blip r:embed="rId1"/>
            <a:stretch/>
          </p:blipFill>
          <p:spPr>
            <a:xfrm>
              <a:off x="189000" y="225360"/>
              <a:ext cx="8759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50920" y="260280"/>
              <a:ext cx="86421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6600"/>
                  </a:solidFill>
                  <a:latin typeface="Arial"/>
                </a:rPr>
                <a:t>    </a:t>
              </a:r>
              <a:r>
                <a:rPr b="1" lang="ru-RU" sz="3600" spc="-1" strike="noStrike">
                  <a:solidFill>
                    <a:srgbClr val="c00000"/>
                  </a:solidFill>
                  <a:latin typeface="Arial Narrow"/>
                </a:rPr>
                <a:t>Источники желез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Rectangle 3"/>
          <p:cNvGrpSpPr/>
          <p:nvPr/>
        </p:nvGrpSpPr>
        <p:grpSpPr>
          <a:xfrm>
            <a:off x="189000" y="1285920"/>
            <a:ext cx="9015480" cy="5310000"/>
            <a:chOff x="189000" y="1285920"/>
            <a:chExt cx="9015480" cy="5310000"/>
          </a:xfrm>
        </p:grpSpPr>
        <p:pic>
          <p:nvPicPr>
            <p:cNvPr id="85" name="Rectangle 3" descr=""/>
            <p:cNvPicPr/>
            <p:nvPr/>
          </p:nvPicPr>
          <p:blipFill>
            <a:blip r:embed="rId2"/>
            <a:stretch/>
          </p:blipFill>
          <p:spPr>
            <a:xfrm>
              <a:off x="189000" y="1285920"/>
              <a:ext cx="9015480" cy="53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50920" y="1413000"/>
              <a:ext cx="86421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76280" indent="-476280" algn="ctr"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3300"/>
                  </a:solidFill>
                  <a:latin typeface="Arial"/>
                </a:rPr>
                <a:t>           </a:t>
              </a:r>
              <a:r>
                <a:rPr b="1" lang="ru-RU" sz="3600" spc="-1" strike="noStrike">
                  <a:solidFill>
                    <a:srgbClr val="0000cc"/>
                  </a:solidFill>
                  <a:latin typeface="Arial Narrow"/>
                </a:rPr>
                <a:t>Железо содержится в продуктах животного и растительного происхождения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 Narrow"/>
                </a:rPr>
                <a:t>:  мясе, рыбе, печени, почках, яйцах, сое, горохе, фасоли, кукурузе, шпинате, петрушке, черносливе, кураге, изюме, хлебе, яблоках, гранатах, гречневой крупе, меде, шоколад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76280" indent="-476280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очные эффекты на фоне перорального применения препаратов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676520"/>
          <a:ext cx="8229600" cy="4630680"/>
        </p:xfrm>
        <a:graphic>
          <a:graphicData uri="http://schemas.openxmlformats.org/drawingml/2006/table">
            <a:tbl>
              <a:tblPr/>
              <a:tblGrid>
                <a:gridCol w="1523880"/>
                <a:gridCol w="2590920"/>
                <a:gridCol w="2057400"/>
                <a:gridCol w="2057400"/>
              </a:tblGrid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очный эфф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 желе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еза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мальтоз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пепсические расстр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орексия, металлический вкус во рту, чувство переполнения желудка, давления в эпигастрии, тошнота рв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 (от 1 до 1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ред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0,001% до 0,0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поражения Ж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венное поражение пищевода, стеноз пище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вязи с образованием в кишечнике сернистого железа – активного ингибитора функции толстого кишеч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ред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чневое окрашивание эмали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о, особенно у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ное окрашивание сту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словлено выделением невсосавшегося же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меет клинического 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Text Box 4"/>
          <p:cNvSpPr/>
          <p:nvPr/>
        </p:nvSpPr>
        <p:spPr>
          <a:xfrm>
            <a:off x="4675320" y="65199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инструкциям к препаратам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Группа 18"/>
          <p:cNvGrpSpPr/>
          <p:nvPr/>
        </p:nvGrpSpPr>
        <p:grpSpPr>
          <a:xfrm>
            <a:off x="179280" y="259920"/>
            <a:ext cx="8713440" cy="2592720"/>
            <a:chOff x="179280" y="259920"/>
            <a:chExt cx="8713440" cy="2592720"/>
          </a:xfrm>
        </p:grpSpPr>
        <p:grpSp>
          <p:nvGrpSpPr>
            <p:cNvPr id="88" name="Выноска со стрелкой вправо 6"/>
            <p:cNvGrpSpPr/>
            <p:nvPr/>
          </p:nvGrpSpPr>
          <p:grpSpPr>
            <a:xfrm>
              <a:off x="179280" y="260280"/>
              <a:ext cx="4512600" cy="2592360"/>
              <a:chOff x="179280" y="260280"/>
              <a:chExt cx="4512600" cy="2592360"/>
            </a:xfrm>
          </p:grpSpPr>
          <p:pic>
            <p:nvPicPr>
              <p:cNvPr id="89" name="Выноска со стрелкой вправо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260280"/>
                <a:ext cx="4512600" cy="25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5400000">
                <a:off x="1693800" y="-960120"/>
                <a:ext cx="1492200" cy="41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Выноска со стрелкой вправо 11"/>
            <p:cNvGrpSpPr/>
            <p:nvPr/>
          </p:nvGrpSpPr>
          <p:grpSpPr>
            <a:xfrm>
              <a:off x="4714920" y="259920"/>
              <a:ext cx="4177800" cy="2592360"/>
              <a:chOff x="4714920" y="259920"/>
              <a:chExt cx="4177800" cy="2592360"/>
            </a:xfrm>
          </p:grpSpPr>
          <p:pic>
            <p:nvPicPr>
              <p:cNvPr id="92" name="Выноска со стрелкой вправо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714920" y="259920"/>
                <a:ext cx="4177800" cy="25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 rot="5400000">
                <a:off x="6060960" y="-792000"/>
                <a:ext cx="1492200" cy="38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Прямоугольник 16"/>
          <p:cNvSpPr/>
          <p:nvPr/>
        </p:nvSpPr>
        <p:spPr>
          <a:xfrm>
            <a:off x="468360" y="40464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 Narrow"/>
              </a:rPr>
              <a:t>В продуктах животного происх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7"/>
          <p:cNvSpPr/>
          <p:nvPr/>
        </p:nvSpPr>
        <p:spPr>
          <a:xfrm>
            <a:off x="5076720" y="47628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 Narrow"/>
              </a:rPr>
              <a:t>Fe</a:t>
            </a:r>
            <a:r>
              <a:rPr b="1" lang="ru-RU" sz="3200" spc="-1" strike="noStrike">
                <a:solidFill>
                  <a:srgbClr val="0000cc"/>
                </a:solidFill>
                <a:latin typeface="Arial Narrow"/>
              </a:rPr>
              <a:t> растительных проду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Прямоугольник 19"/>
          <p:cNvGrpSpPr/>
          <p:nvPr/>
        </p:nvGrpSpPr>
        <p:grpSpPr>
          <a:xfrm>
            <a:off x="0" y="2901960"/>
            <a:ext cx="4591080" cy="3706920"/>
            <a:chOff x="0" y="2901960"/>
            <a:chExt cx="4591080" cy="3706920"/>
          </a:xfrm>
        </p:grpSpPr>
        <p:pic>
          <p:nvPicPr>
            <p:cNvPr id="97" name="Прямоугольник 19" descr=""/>
            <p:cNvPicPr/>
            <p:nvPr/>
          </p:nvPicPr>
          <p:blipFill>
            <a:blip r:embed="rId3"/>
            <a:stretch/>
          </p:blipFill>
          <p:spPr>
            <a:xfrm>
              <a:off x="0" y="2901960"/>
              <a:ext cx="459108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79280" y="2997360"/>
              <a:ext cx="435780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Fe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 Narrow"/>
                </a:rPr>
                <a:t> содержится в виде двухвалентных ионов, хорошо растворяется в щелочной среде тонкой кишки и всасывается практически вез участия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HCl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 Narrow"/>
                </a:rPr>
                <a:t>(т.е. атрофический гастрит не помеха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Прямоугольник 13"/>
          <p:cNvGrpSpPr/>
          <p:nvPr/>
        </p:nvGrpSpPr>
        <p:grpSpPr>
          <a:xfrm>
            <a:off x="4608360" y="2859120"/>
            <a:ext cx="4584960" cy="3700440"/>
            <a:chOff x="4608360" y="2859120"/>
            <a:chExt cx="4584960" cy="3700440"/>
          </a:xfrm>
        </p:grpSpPr>
        <p:pic>
          <p:nvPicPr>
            <p:cNvPr id="100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4608360" y="2859120"/>
              <a:ext cx="458496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786200" y="2949480"/>
              <a:ext cx="41785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 Narrow"/>
                </a:rPr>
                <a:t>Поступает в основном в виде ионов Fe3+. Оно не растворимо в щелочной среде тонкой кишки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 Narrow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 Narrow"/>
                </a:rPr>
                <a:t>В желудке под влиянием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HCl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 Narrow"/>
                </a:rPr>
                <a:t> оно переходит в Fe2+, которое затем всасывается в кишечник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Группа 18" descr=""/>
          <p:cNvPicPr/>
          <p:nvPr/>
        </p:nvPicPr>
        <p:blipFill>
          <a:blip r:embed="rId1"/>
          <a:stretch/>
        </p:blipFill>
        <p:spPr>
          <a:xfrm>
            <a:off x="231840" y="3925800"/>
            <a:ext cx="4363920" cy="2951280"/>
          </a:xfrm>
          <a:prstGeom prst="rect">
            <a:avLst/>
          </a:prstGeom>
          <a:ln w="0">
            <a:noFill/>
          </a:ln>
        </p:spPr>
      </p:pic>
      <p:grpSp>
        <p:nvGrpSpPr>
          <p:cNvPr id="103" name="Прямоугольник 8"/>
          <p:cNvGrpSpPr/>
          <p:nvPr/>
        </p:nvGrpSpPr>
        <p:grpSpPr>
          <a:xfrm>
            <a:off x="4443480" y="1914480"/>
            <a:ext cx="4505400" cy="1041480"/>
            <a:chOff x="4443480" y="1914480"/>
            <a:chExt cx="4505400" cy="1041480"/>
          </a:xfrm>
        </p:grpSpPr>
        <p:pic>
          <p:nvPicPr>
            <p:cNvPr id="10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443480" y="1914480"/>
              <a:ext cx="45054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500720" y="2060640"/>
              <a:ext cx="43434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 Narrow"/>
                </a:rPr>
                <a:t>2-3 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7"/>
          <p:cNvGrpSpPr/>
          <p:nvPr/>
        </p:nvGrpSpPr>
        <p:grpSpPr>
          <a:xfrm>
            <a:off x="4443480" y="871560"/>
            <a:ext cx="4505400" cy="1219320"/>
            <a:chOff x="4443480" y="871560"/>
            <a:chExt cx="4505400" cy="1219320"/>
          </a:xfrm>
        </p:grpSpPr>
        <p:pic>
          <p:nvPicPr>
            <p:cNvPr id="107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443480" y="871560"/>
              <a:ext cx="4505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500720" y="1125360"/>
              <a:ext cx="4343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 Narrow"/>
                </a:rPr>
                <a:t>1 % 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ru-RU" sz="4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оугольник 9"/>
          <p:cNvGrpSpPr/>
          <p:nvPr/>
        </p:nvGrpSpPr>
        <p:grpSpPr>
          <a:xfrm>
            <a:off x="4443480" y="5614920"/>
            <a:ext cx="4505400" cy="1193760"/>
            <a:chOff x="4443480" y="5614920"/>
            <a:chExt cx="4505400" cy="1193760"/>
          </a:xfrm>
        </p:grpSpPr>
        <p:pic>
          <p:nvPicPr>
            <p:cNvPr id="110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443480" y="5614920"/>
              <a:ext cx="450540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500720" y="5877000"/>
              <a:ext cx="434628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00000"/>
                  </a:solidFill>
                  <a:latin typeface="Arial Narrow"/>
                </a:rPr>
                <a:t>22 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Прямоугольник 14"/>
          <p:cNvSpPr/>
          <p:nvPr/>
        </p:nvSpPr>
        <p:spPr>
          <a:xfrm>
            <a:off x="250920" y="115920"/>
            <a:ext cx="8664480" cy="581400"/>
          </a:xfrm>
          <a:prstGeom prst="rect">
            <a:avLst/>
          </a:prstGeom>
          <a:solidFill>
            <a:srgbClr val="d1d1f0"/>
          </a:solidFill>
          <a:ln w="6480">
            <a:solidFill>
              <a:srgbClr val="ffffff"/>
            </a:solidFill>
            <a:miter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Narrow"/>
              </a:rPr>
              <a:t>Абсорбция железа из пищевых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Группа 18" descr=""/>
          <p:cNvPicPr/>
          <p:nvPr/>
        </p:nvPicPr>
        <p:blipFill>
          <a:blip r:embed="rId5"/>
          <a:stretch/>
        </p:blipFill>
        <p:spPr>
          <a:xfrm>
            <a:off x="231840" y="1042920"/>
            <a:ext cx="4303800" cy="2955960"/>
          </a:xfrm>
          <a:prstGeom prst="rect">
            <a:avLst/>
          </a:prstGeom>
          <a:ln w="0">
            <a:noFill/>
          </a:ln>
        </p:spPr>
      </p:pic>
      <p:grpSp>
        <p:nvGrpSpPr>
          <p:cNvPr id="114" name="Прямоугольник 20"/>
          <p:cNvGrpSpPr/>
          <p:nvPr/>
        </p:nvGrpSpPr>
        <p:grpSpPr>
          <a:xfrm>
            <a:off x="4443480" y="2919240"/>
            <a:ext cx="4505400" cy="1043280"/>
            <a:chOff x="4443480" y="2919240"/>
            <a:chExt cx="4505400" cy="1043280"/>
          </a:xfrm>
        </p:grpSpPr>
        <p:pic>
          <p:nvPicPr>
            <p:cNvPr id="115" name="Прямоугольник 20" descr=""/>
            <p:cNvPicPr/>
            <p:nvPr/>
          </p:nvPicPr>
          <p:blipFill>
            <a:blip r:embed="rId6"/>
            <a:stretch/>
          </p:blipFill>
          <p:spPr>
            <a:xfrm>
              <a:off x="4443480" y="2919240"/>
              <a:ext cx="450540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500720" y="3068640"/>
              <a:ext cx="43434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 Narrow"/>
                </a:rPr>
                <a:t>2-3 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Прямоугольник 21"/>
          <p:cNvGrpSpPr/>
          <p:nvPr/>
        </p:nvGrpSpPr>
        <p:grpSpPr>
          <a:xfrm>
            <a:off x="4443480" y="3932280"/>
            <a:ext cx="4505400" cy="1041480"/>
            <a:chOff x="4443480" y="3932280"/>
            <a:chExt cx="4505400" cy="1041480"/>
          </a:xfrm>
        </p:grpSpPr>
        <p:pic>
          <p:nvPicPr>
            <p:cNvPr id="118" name="Прямоугольник 21" descr=""/>
            <p:cNvPicPr/>
            <p:nvPr/>
          </p:nvPicPr>
          <p:blipFill>
            <a:blip r:embed="rId7"/>
            <a:stretch/>
          </p:blipFill>
          <p:spPr>
            <a:xfrm>
              <a:off x="4443480" y="3932280"/>
              <a:ext cx="45054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500720" y="4076640"/>
              <a:ext cx="43434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 Narrow"/>
                </a:rPr>
                <a:t>9-11 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Прямоугольник 22"/>
          <p:cNvGrpSpPr/>
          <p:nvPr/>
        </p:nvGrpSpPr>
        <p:grpSpPr>
          <a:xfrm>
            <a:off x="4443480" y="4863960"/>
            <a:ext cx="4505400" cy="1043280"/>
            <a:chOff x="4443480" y="4863960"/>
            <a:chExt cx="4505400" cy="1043280"/>
          </a:xfrm>
        </p:grpSpPr>
        <p:pic>
          <p:nvPicPr>
            <p:cNvPr id="121" name="Прямоугольник 22" descr=""/>
            <p:cNvPicPr/>
            <p:nvPr/>
          </p:nvPicPr>
          <p:blipFill>
            <a:blip r:embed="rId8"/>
            <a:stretch/>
          </p:blipFill>
          <p:spPr>
            <a:xfrm>
              <a:off x="4443480" y="4863960"/>
              <a:ext cx="450540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500720" y="5013360"/>
              <a:ext cx="43434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 Narrow"/>
                </a:rPr>
                <a:t>12-16 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Прямоугольник 23"/>
          <p:cNvSpPr/>
          <p:nvPr/>
        </p:nvSpPr>
        <p:spPr>
          <a:xfrm>
            <a:off x="468360" y="1197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р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4"/>
          <p:cNvSpPr/>
          <p:nvPr/>
        </p:nvSpPr>
        <p:spPr>
          <a:xfrm>
            <a:off x="468360" y="2133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фасо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6"/>
          <p:cNvSpPr/>
          <p:nvPr/>
        </p:nvSpPr>
        <p:spPr>
          <a:xfrm>
            <a:off x="468360" y="4149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ры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7"/>
          <p:cNvSpPr/>
          <p:nvPr/>
        </p:nvSpPr>
        <p:spPr>
          <a:xfrm>
            <a:off x="468360" y="50133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еч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8"/>
          <p:cNvSpPr/>
          <p:nvPr/>
        </p:nvSpPr>
        <p:spPr>
          <a:xfrm>
            <a:off x="468360" y="59500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Narrow"/>
              </a:rPr>
              <a:t>теля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9"/>
          <p:cNvSpPr/>
          <p:nvPr/>
        </p:nvSpPr>
        <p:spPr>
          <a:xfrm>
            <a:off x="468360" y="2997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фру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087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666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30872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95280" y="188928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409760"/>
            <a:ext cx="8064720" cy="5577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1. ГЭРБ, ГП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2. Эрозивные гастриты, НПВП- гастропатии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3. Язвенная боле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4. ХВЗК (НЯК, болезнь Крон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5. Кровоточащий геморрой, анальная трещин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6. Маточные кровот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7. Другие кровопотери (носовые, почеч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ровохарканье при БЭБ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8. Опухоли Ж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Narrow"/>
              </a:rPr>
              <a:t>9. Доно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Недостаток железа в организме челове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5013360"/>
            <a:ext cx="14288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136" name="Прямоугольник 5"/>
          <p:cNvGrpSpPr/>
          <p:nvPr/>
        </p:nvGrpSpPr>
        <p:grpSpPr>
          <a:xfrm>
            <a:off x="-19080" y="79200"/>
            <a:ext cx="847800" cy="6589800"/>
            <a:chOff x="-19080" y="79200"/>
            <a:chExt cx="847800" cy="6589800"/>
          </a:xfrm>
        </p:grpSpPr>
        <p:pic>
          <p:nvPicPr>
            <p:cNvPr id="137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-19080" y="79200"/>
              <a:ext cx="84780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 rot="16200000">
              <a:off x="-2793240" y="3035880"/>
              <a:ext cx="648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Arial Narrow"/>
                </a:rPr>
                <a:t>Причины  ЖД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Прямоугольник 6"/>
          <p:cNvGrpSpPr/>
          <p:nvPr/>
        </p:nvGrpSpPr>
        <p:grpSpPr>
          <a:xfrm>
            <a:off x="841320" y="-6480"/>
            <a:ext cx="8180280" cy="1397160"/>
            <a:chOff x="841320" y="-6480"/>
            <a:chExt cx="8180280" cy="1397160"/>
          </a:xfrm>
        </p:grpSpPr>
        <p:pic>
          <p:nvPicPr>
            <p:cNvPr id="140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841320" y="-6480"/>
              <a:ext cx="81802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900000" y="115920"/>
              <a:ext cx="806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7160" indent="-8571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 Narrow"/>
                </a:rPr>
                <a:t>I</a:t>
              </a:r>
              <a:r>
                <a:rPr b="1" lang="ru-RU" sz="3600" spc="-1" strike="noStrike">
                  <a:solidFill>
                    <a:srgbClr val="0000ff"/>
                  </a:solidFill>
                  <a:latin typeface="Arial Narrow"/>
                </a:rPr>
                <a:t>. Хронические кровопотер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857160" indent="-857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79280" y="907920"/>
            <a:ext cx="8785440" cy="533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1. Резекция желудка 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кишеч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2. Хронический панкреатит 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индромами мальдигестии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мальабсорб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3. Атрофический гаст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4. Дисбиоз кишечника 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II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5. Гипотире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6. Глютеновая энтеропа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img_right"/>
          <p:cNvPicPr/>
          <p:nvPr/>
        </p:nvPicPr>
        <p:blipFill>
          <a:blip r:embed="rId2"/>
          <a:stretch/>
        </p:blipFill>
        <p:spPr>
          <a:xfrm>
            <a:off x="6948360" y="3789360"/>
            <a:ext cx="1729080" cy="1655640"/>
          </a:xfrm>
          <a:prstGeom prst="rect">
            <a:avLst/>
          </a:prstGeom>
          <a:ln w="0">
            <a:noFill/>
          </a:ln>
        </p:spPr>
      </p:pic>
      <p:grpSp>
        <p:nvGrpSpPr>
          <p:cNvPr id="144" name="Прямоугольник 3"/>
          <p:cNvGrpSpPr/>
          <p:nvPr/>
        </p:nvGrpSpPr>
        <p:grpSpPr>
          <a:xfrm>
            <a:off x="115920" y="66600"/>
            <a:ext cx="8905680" cy="841320"/>
            <a:chOff x="115920" y="66600"/>
            <a:chExt cx="8905680" cy="841320"/>
          </a:xfrm>
        </p:grpSpPr>
        <p:pic>
          <p:nvPicPr>
            <p:cNvPr id="145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15920" y="66600"/>
              <a:ext cx="89056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79280" y="189000"/>
              <a:ext cx="878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 Narrow"/>
                </a:rPr>
                <a:t>II</a:t>
              </a:r>
              <a:r>
                <a:rPr b="0" lang="ru-RU" sz="3600" spc="-1" strike="noStrike">
                  <a:solidFill>
                    <a:srgbClr val="0000ff"/>
                  </a:solidFill>
                  <a:latin typeface="Arial Narrow"/>
                </a:rPr>
                <a:t>. </a:t>
              </a:r>
              <a:r>
                <a:rPr b="1" lang="ru-RU" sz="3600" spc="-1" strike="noStrike">
                  <a:solidFill>
                    <a:srgbClr val="0000ff"/>
                  </a:solidFill>
                  <a:latin typeface="Arial Narrow"/>
                </a:rPr>
                <a:t>Нарушение всасыв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2:27:03Z</dcterms:created>
  <dc:creator>KK USER</dc:creator>
  <dc:description/>
  <dc:language>en-US</dc:language>
  <cp:lastModifiedBy>User</cp:lastModifiedBy>
  <dcterms:modified xsi:type="dcterms:W3CDTF">2018-04-10T15:49:51Z</dcterms:modified>
  <cp:revision>361</cp:revision>
  <dc:subject/>
  <dc:title>Летизен</dc:title>
</cp:coreProperties>
</file>